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25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7.jpeg" ContentType="image/jpeg"/>
  <Override PartName="/ppt/media/image1.png" ContentType="image/png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4120" y="917064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6DC6003-3312-4A67-ADB3-F36A9C630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91800" y="4578480"/>
            <a:ext cx="53658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258560" y="728640"/>
            <a:ext cx="47926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0DF50-0FB5-4A9F-9AA6-212BDD5481F6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29CD3-BDD0-441E-A87E-1BE1643BF82F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2EDB-DC83-4136-A2B1-8C1EA7E010B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body"/>
          </p:nvPr>
        </p:nvSpPr>
        <p:spPr>
          <a:xfrm>
            <a:off x="992160" y="4568400"/>
            <a:ext cx="5370480" cy="432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41285-D65A-4D4E-91C3-39E068B448F6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9A72D-6C53-474F-B09F-9E41B6A4F3AC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DAFB-3213-4E27-8C5E-B76AC37EB667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76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080" y="167652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76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080" y="3940560"/>
            <a:ext cx="25239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30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4960" y="394056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4960" y="1676520"/>
            <a:ext cx="3825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560"/>
            <a:ext cx="783936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8908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AE197D0-09D5-4B6E-8ACD-557140089D3C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304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393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raadita võrk – kombinatsi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43120" y="1371600"/>
            <a:ext cx="4313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paketi forma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676520"/>
            <a:ext cx="784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sh wifi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193.40.254.28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Marsru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760" y="1071720"/>
            <a:ext cx="8227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aab teha suvalisest arvut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1356840" y="4357800"/>
            <a:ext cx="186156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66" name=""/>
          <p:cNvCxnSpPr/>
          <p:nvPr/>
        </p:nvCxnSpPr>
        <p:spPr>
          <a:xfrm flipH="1">
            <a:off x="6644520" y="3646080"/>
            <a:ext cx="50076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 flipV="1">
            <a:off x="7287840" y="4357440"/>
            <a:ext cx="35784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 flipV="1">
            <a:off x="6930720" y="450180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73" name=""/>
          <p:cNvCxnSpPr/>
          <p:nvPr/>
        </p:nvCxnSpPr>
        <p:spPr>
          <a:xfrm flipH="1" flipV="1">
            <a:off x="715680" y="457164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"/>
          <p:cNvCxnSpPr/>
          <p:nvPr/>
        </p:nvCxnSpPr>
        <p:spPr>
          <a:xfrm flipV="1">
            <a:off x="353880" y="3645720"/>
            <a:ext cx="57384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V="1">
            <a:off x="713880" y="3787200"/>
            <a:ext cx="500760" cy="4309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214720" y="5214960"/>
            <a:ext cx="4473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aadab pakette ühest võrguliidesest t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va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5000400" y="4428720"/>
            <a:ext cx="178668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5" name=""/>
          <p:cNvCxnSpPr/>
          <p:nvPr/>
        </p:nvCxnSpPr>
        <p:spPr>
          <a:xfrm flipH="1">
            <a:off x="6716160" y="3718080"/>
            <a:ext cx="50076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 flipH="1" flipV="1">
            <a:off x="7357680" y="4428360"/>
            <a:ext cx="357840" cy="25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flipH="1" flipV="1">
            <a:off x="7002000" y="457164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92" name=""/>
          <p:cNvCxnSpPr/>
          <p:nvPr/>
        </p:nvCxnSpPr>
        <p:spPr>
          <a:xfrm flipH="1" flipV="1">
            <a:off x="786960" y="4641480"/>
            <a:ext cx="357840" cy="110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V="1">
            <a:off x="426960" y="3717720"/>
            <a:ext cx="573840" cy="216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286000" y="5286240"/>
            <a:ext cx="447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Tundmatud paketid saadetakse internetti läbi eraldi liid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V="1">
            <a:off x="4798800" y="1904760"/>
            <a:ext cx="1600920" cy="2057760"/>
          </a:xfrm>
          <a:prstGeom prst="straightConnector1">
            <a:avLst/>
          </a:prstGeom>
          <a:ln cap="sq"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98" name=""/>
          <p:cNvCxnSpPr/>
          <p:nvPr/>
        </p:nvCxnSpPr>
        <p:spPr>
          <a:xfrm flipH="1">
            <a:off x="6640200" y="929880"/>
            <a:ext cx="429120" cy="14364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flipH="1" flipV="1">
            <a:off x="6786360" y="1503000"/>
            <a:ext cx="429120" cy="7200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>
            <a:off x="6786360" y="1071720"/>
            <a:ext cx="429120" cy="143280"/>
          </a:xfrm>
          <a:prstGeom prst="straightConnector1">
            <a:avLst/>
          </a:prstGeom>
          <a:ln cap="sq"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429000" y="3429000"/>
            <a:ext cx="14097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infrastruktuuri marsruut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340160" cy="3471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533160" y="1500120"/>
            <a:ext cx="953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Väga kiired, oskavad marsruutimise keerulisemaid 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8465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209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212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216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220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224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228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232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236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240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244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172200" y="1514520"/>
            <a:ext cx="1143000" cy="24768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657600" y="3419640"/>
            <a:ext cx="9144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800600" y="2885760"/>
            <a:ext cx="30492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334120" y="1971360"/>
            <a:ext cx="45720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5562720"/>
            <a:ext cx="4643640" cy="674640"/>
            <a:chOff x="2438280" y="5562720"/>
            <a:chExt cx="4643640" cy="674640"/>
          </a:xfrm>
        </p:grpSpPr>
        <p:sp>
          <p:nvSpPr>
            <p:cNvPr id="273" name=""/>
            <p:cNvSpPr/>
            <p:nvPr/>
          </p:nvSpPr>
          <p:spPr>
            <a:xfrm>
              <a:off x="2438280" y="5562720"/>
              <a:ext cx="4643640" cy="674640"/>
            </a:xfrm>
            <a:prstGeom prst="roundRect">
              <a:avLst>
                <a:gd name="adj" fmla="val 231"/>
              </a:avLst>
            </a:prstGeom>
            <a:noFill/>
            <a:ln cap="sq"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5562720"/>
              <a:ext cx="46436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 on ümbriku se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uuter-arvutid on nagu postkontorid ja sorteerimispunk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did on nagu veomasinad, mis posti kontorite vahel veav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id saadetakse eraldi, igalühel aadress pe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278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283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286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290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294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298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02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06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10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14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18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657600" y="3419640"/>
            <a:ext cx="9144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35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355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359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363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367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371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375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379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383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387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05520" y="3038040"/>
            <a:ext cx="30456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: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sejuh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k: 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terne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ob kohtvõ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i 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smehhanismi, IP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26920" y="514080"/>
            <a:ext cx="7766280" cy="306360"/>
            <a:chOff x="826920" y="514080"/>
            <a:chExt cx="7766280" cy="306360"/>
          </a:xfrm>
        </p:grpSpPr>
        <p:sp>
          <p:nvSpPr>
            <p:cNvPr id="55" name=""/>
            <p:cNvSpPr/>
            <p:nvPr/>
          </p:nvSpPr>
          <p:spPr>
            <a:xfrm>
              <a:off x="826920" y="8161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593200" y="51408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21360" y="915840"/>
            <a:ext cx="3618000" cy="548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421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424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428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432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436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440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444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448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452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456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410080" y="2047680"/>
            <a:ext cx="381240" cy="2473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49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49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49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50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50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50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51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51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52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52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56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56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56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57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57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57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58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58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59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59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6488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63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635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639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643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647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651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655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659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663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667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6128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6315120" y="2199960"/>
            <a:ext cx="247680" cy="1314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6212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706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709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713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717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721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725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729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733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737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741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627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315120" y="2199960"/>
            <a:ext cx="247680" cy="1314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780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181480" y="2514600"/>
            <a:ext cx="295560" cy="299880"/>
            <a:chOff x="5181480" y="2514600"/>
            <a:chExt cx="295560" cy="299880"/>
          </a:xfrm>
        </p:grpSpPr>
        <p:sp>
          <p:nvSpPr>
            <p:cNvPr id="783" name=""/>
            <p:cNvSpPr/>
            <p:nvPr/>
          </p:nvSpPr>
          <p:spPr>
            <a:xfrm>
              <a:off x="5181480" y="2514600"/>
              <a:ext cx="295560" cy="29988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81480" y="2514600"/>
              <a:ext cx="295560" cy="69840"/>
            </a:xfrm>
            <a:prstGeom prst="pie">
              <a:avLst/>
            </a:prstGeom>
            <a:solidFill>
              <a:srgbClr val="ff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05400" y="2514600"/>
              <a:ext cx="69840" cy="299880"/>
            </a:xfrm>
            <a:prstGeom prst="pie">
              <a:avLst/>
            </a:prstGeom>
            <a:solidFill>
              <a:srgbClr val="db00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200400" y="3581280"/>
            <a:ext cx="295200" cy="300240"/>
            <a:chOff x="3200400" y="3581280"/>
            <a:chExt cx="295200" cy="300240"/>
          </a:xfrm>
        </p:grpSpPr>
        <p:sp>
          <p:nvSpPr>
            <p:cNvPr id="787" name=""/>
            <p:cNvSpPr/>
            <p:nvPr/>
          </p:nvSpPr>
          <p:spPr>
            <a:xfrm>
              <a:off x="3200400" y="3581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0400" y="3581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24320" y="35812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648320" y="3505320"/>
            <a:ext cx="295200" cy="299880"/>
            <a:chOff x="4648320" y="3505320"/>
            <a:chExt cx="295200" cy="299880"/>
          </a:xfrm>
        </p:grpSpPr>
        <p:sp>
          <p:nvSpPr>
            <p:cNvPr id="791" name=""/>
            <p:cNvSpPr/>
            <p:nvPr/>
          </p:nvSpPr>
          <p:spPr>
            <a:xfrm>
              <a:off x="4648320" y="350532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48320" y="3505320"/>
              <a:ext cx="29520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1880" y="350532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248520" y="3657600"/>
            <a:ext cx="295200" cy="299880"/>
            <a:chOff x="6248520" y="3657600"/>
            <a:chExt cx="295200" cy="299880"/>
          </a:xfrm>
        </p:grpSpPr>
        <p:sp>
          <p:nvSpPr>
            <p:cNvPr id="795" name=""/>
            <p:cNvSpPr/>
            <p:nvPr/>
          </p:nvSpPr>
          <p:spPr>
            <a:xfrm>
              <a:off x="6248520" y="3657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48520" y="3657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72080" y="36576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52680" y="2743200"/>
            <a:ext cx="295560" cy="299880"/>
            <a:chOff x="3352680" y="2743200"/>
            <a:chExt cx="295560" cy="299880"/>
          </a:xfrm>
        </p:grpSpPr>
        <p:sp>
          <p:nvSpPr>
            <p:cNvPr id="799" name=""/>
            <p:cNvSpPr/>
            <p:nvPr/>
          </p:nvSpPr>
          <p:spPr>
            <a:xfrm>
              <a:off x="3352680" y="27432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52680" y="27432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76600" y="27432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886200" y="5181480"/>
            <a:ext cx="295200" cy="300240"/>
            <a:chOff x="3886200" y="5181480"/>
            <a:chExt cx="295200" cy="300240"/>
          </a:xfrm>
        </p:grpSpPr>
        <p:sp>
          <p:nvSpPr>
            <p:cNvPr id="803" name=""/>
            <p:cNvSpPr/>
            <p:nvPr/>
          </p:nvSpPr>
          <p:spPr>
            <a:xfrm>
              <a:off x="3886200" y="5181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86200" y="5181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0120" y="5181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486400" y="4800600"/>
            <a:ext cx="295200" cy="299880"/>
            <a:chOff x="5486400" y="4800600"/>
            <a:chExt cx="295200" cy="299880"/>
          </a:xfrm>
        </p:grpSpPr>
        <p:sp>
          <p:nvSpPr>
            <p:cNvPr id="807" name=""/>
            <p:cNvSpPr/>
            <p:nvPr/>
          </p:nvSpPr>
          <p:spPr>
            <a:xfrm>
              <a:off x="5486400" y="48006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86400" y="48006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10320" y="4800600"/>
              <a:ext cx="7128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048120" y="4572000"/>
            <a:ext cx="295200" cy="299880"/>
            <a:chOff x="3048120" y="4572000"/>
            <a:chExt cx="295200" cy="299880"/>
          </a:xfrm>
        </p:grpSpPr>
        <p:sp>
          <p:nvSpPr>
            <p:cNvPr id="811" name=""/>
            <p:cNvSpPr/>
            <p:nvPr/>
          </p:nvSpPr>
          <p:spPr>
            <a:xfrm>
              <a:off x="3048120" y="4572000"/>
              <a:ext cx="29520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8120" y="4572000"/>
              <a:ext cx="29520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71680" y="4572000"/>
              <a:ext cx="716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815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 flipV="1">
            <a:off x="3657600" y="2581200"/>
            <a:ext cx="1523880" cy="247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419640" y="3048120"/>
            <a:ext cx="95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410080" y="2048040"/>
            <a:ext cx="687600" cy="475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866840" y="2819520"/>
            <a:ext cx="47628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342960" y="3962520"/>
            <a:ext cx="314316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105080" y="3809880"/>
            <a:ext cx="7045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124080" y="3876480"/>
            <a:ext cx="152640" cy="704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505320" y="3571920"/>
            <a:ext cx="1143000" cy="95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191120" y="4866840"/>
            <a:ext cx="129672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638680" y="3952440"/>
            <a:ext cx="76212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657600" y="1819440"/>
            <a:ext cx="2209680" cy="933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4572000" y="2886120"/>
            <a:ext cx="533520" cy="552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733920" y="3419640"/>
            <a:ext cx="68580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5705640" y="2352240"/>
            <a:ext cx="146664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5984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334120" y="2047680"/>
            <a:ext cx="45720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suhteliselt väikeseid sõnumeid (64 kB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õnumiette pannakse lisainfo (päis ehk header), mis ütleb, e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hu see sõnum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st  sõnum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lga lisainfot ka v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53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143000" y="3809880"/>
            <a:ext cx="6014880" cy="681120"/>
            <a:chOff x="1143000" y="3809880"/>
            <a:chExt cx="6014880" cy="681120"/>
          </a:xfrm>
        </p:grpSpPr>
        <p:sp>
          <p:nvSpPr>
            <p:cNvPr id="856" name=""/>
            <p:cNvSpPr/>
            <p:nvPr/>
          </p:nvSpPr>
          <p:spPr>
            <a:xfrm>
              <a:off x="1143000" y="3809880"/>
              <a:ext cx="601488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3000" y="3809880"/>
              <a:ext cx="601488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õnum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sisendpuhver on täis, siis ignoreer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 datagrammi käsitletakse sõltumat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64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1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273480" y="4191120"/>
            <a:ext cx="4959360" cy="1143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6920" y="241200"/>
            <a:ext cx="66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8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õrkude võ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400" y="1357200"/>
            <a:ext cx="78058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2240" y="10065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8CC26-2D61-44A9-9D49-35B4178BFC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liivakella kitsas ko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on Interneti protokollide liivakella talje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kõrge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madala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Ainult üks protokoll võrgu tasem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366920" y="260280"/>
            <a:ext cx="7167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1400" y="1312920"/>
            <a:ext cx="81676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: telefoniühend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 loovad (virtuaalse) ka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nne andemvahetust on vaja kanal luua ja pärast sulge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d teavad teise olekut kommunikatsiooniprotses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vestlu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SMTP, TCP, 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: postiühend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htlus toimub paketi kau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küsimus-vastus vormi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DNS, NFS, UDP, IP, Eth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D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user datagram protocol). Ei kontrollita, kas info jõudis pä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C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transfer control protocol). Toimub kontro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85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838080" y="2895480"/>
            <a:ext cx="6015240" cy="681120"/>
            <a:chOff x="838080" y="2895480"/>
            <a:chExt cx="6015240" cy="681120"/>
          </a:xfrm>
        </p:grpSpPr>
        <p:sp>
          <p:nvSpPr>
            <p:cNvPr id="888" name=""/>
            <p:cNvSpPr/>
            <p:nvPr/>
          </p:nvSpPr>
          <p:spPr>
            <a:xfrm>
              <a:off x="838080" y="2895480"/>
              <a:ext cx="601524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38080" y="2895480"/>
              <a:ext cx="601524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209680" y="4876920"/>
            <a:ext cx="4643640" cy="757080"/>
            <a:chOff x="2209680" y="4876920"/>
            <a:chExt cx="4643640" cy="757080"/>
          </a:xfrm>
        </p:grpSpPr>
        <p:sp>
          <p:nvSpPr>
            <p:cNvPr id="892" name=""/>
            <p:cNvSpPr/>
            <p:nvPr/>
          </p:nvSpPr>
          <p:spPr>
            <a:xfrm>
              <a:off x="2209680" y="4876920"/>
              <a:ext cx="4643640" cy="7570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09680" y="4876920"/>
              <a:ext cx="464364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92360" y="3962520"/>
            <a:ext cx="434664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saldab omakorda päisega inf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ähte- ja sihtport (kumbki 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atagrammi pikkus (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(kaks baiti, pole kohustuslik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osa (varieeruva pikkusega hulk bait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980640" y="3200400"/>
            <a:ext cx="399960" cy="9907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gab voo segmentid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tes käivitab taimeri ja ootab kinn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nnitab saadud segm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päisest ja and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rastab segmentide järje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ustab dublikaa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ib voo mah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38080" y="3429000"/>
            <a:ext cx="2662200" cy="2738520"/>
            <a:chOff x="838080" y="3429000"/>
            <a:chExt cx="2662200" cy="2738520"/>
          </a:xfrm>
        </p:grpSpPr>
        <p:sp>
          <p:nvSpPr>
            <p:cNvPr id="906" name=""/>
            <p:cNvSpPr/>
            <p:nvPr/>
          </p:nvSpPr>
          <p:spPr>
            <a:xfrm>
              <a:off x="838080" y="3429000"/>
              <a:ext cx="2662200" cy="2738520"/>
            </a:xfrm>
            <a:custGeom>
              <a:avLst/>
              <a:gdLst>
                <a:gd name="textAreaLeft" fmla="*/ 360 w 2662200"/>
                <a:gd name="textAreaRight" fmla="*/ 2661840 w 2662200"/>
                <a:gd name="textAreaTop" fmla="*/ 360 h 2738520"/>
                <a:gd name="textAreaBottom" fmla="*/ 2738160 h 2738520"/>
              </a:gdLst>
              <a:ahLst/>
              <a:rect l="textAreaLeft" t="textAreaTop" r="textAreaRight" b="textAreaBottom"/>
              <a:pathLst>
                <a:path w="21600" h="22219">
                  <a:moveTo>
                    <a:pt x="12" y="0"/>
                  </a:moveTo>
                  <a:arcTo wR="12" hR="12" stAng="16200000" swAng="-5400000"/>
                  <a:lnTo>
                    <a:pt x="0" y="22207"/>
                  </a:lnTo>
                  <a:arcTo wR="12" hR="12" stAng="10800000" swAng="-5400000"/>
                  <a:lnTo>
                    <a:pt x="21588" y="22219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3429000"/>
              <a:ext cx="2662200" cy="2738520"/>
            </a:xfrm>
            <a:custGeom>
              <a:avLst/>
              <a:gdLst>
                <a:gd name="textAreaLeft" fmla="*/ 360 w 2662200"/>
                <a:gd name="textAreaRight" fmla="*/ 2661840 w 2662200"/>
                <a:gd name="textAreaTop" fmla="*/ 360 h 2738520"/>
                <a:gd name="textAreaBottom" fmla="*/ 2738160 h 2738520"/>
              </a:gdLst>
              <a:ahLst/>
              <a:rect l="textAreaLeft" t="textAreaTop" r="textAreaRight" b="textAreaBottom"/>
              <a:pathLst>
                <a:path w="21600" h="22219">
                  <a:moveTo>
                    <a:pt x="12" y="0"/>
                  </a:moveTo>
                  <a:arcTo wR="12" hR="12" stAng="16200000" swAng="-5400000"/>
                  <a:lnTo>
                    <a:pt x="0" y="22207"/>
                  </a:lnTo>
                  <a:arcTo wR="12" hR="12" stAng="10800000" swAng="-5400000"/>
                  <a:lnTo>
                    <a:pt x="21588" y="22219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191120" y="3505320"/>
            <a:ext cx="299880" cy="299880"/>
            <a:chOff x="4191120" y="3505320"/>
            <a:chExt cx="299880" cy="299880"/>
          </a:xfrm>
        </p:grpSpPr>
        <p:sp>
          <p:nvSpPr>
            <p:cNvPr id="910" name=""/>
            <p:cNvSpPr/>
            <p:nvPr/>
          </p:nvSpPr>
          <p:spPr>
            <a:xfrm>
              <a:off x="4191120" y="350532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5400" y="3549600"/>
              <a:ext cx="209520" cy="209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91120" y="4343400"/>
            <a:ext cx="299880" cy="376200"/>
            <a:chOff x="4191120" y="4343400"/>
            <a:chExt cx="299880" cy="376200"/>
          </a:xfrm>
        </p:grpSpPr>
        <p:sp>
          <p:nvSpPr>
            <p:cNvPr id="913" name=""/>
            <p:cNvSpPr/>
            <p:nvPr/>
          </p:nvSpPr>
          <p:spPr>
            <a:xfrm>
              <a:off x="4191120" y="4343400"/>
              <a:ext cx="299880" cy="37620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35400" y="4398840"/>
              <a:ext cx="209520" cy="2635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63520"/>
                <a:gd name="textAreaBottom" fmla="*/ 263160 h 263520"/>
              </a:gdLst>
              <a:ahLst/>
              <a:rect l="textAreaLeft" t="textAreaTop" r="textAreaRight" b="textAreaBottom"/>
              <a:pathLst>
                <a:path w="21600" h="27157">
                  <a:moveTo>
                    <a:pt x="161" y="0"/>
                  </a:moveTo>
                  <a:arcTo wR="161" hR="161" stAng="16200000" swAng="-5400000"/>
                  <a:lnTo>
                    <a:pt x="0" y="26996"/>
                  </a:lnTo>
                  <a:arcTo wR="161" hR="161" stAng="10800000" swAng="-5400000"/>
                  <a:lnTo>
                    <a:pt x="21439" y="2715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191120" y="5791320"/>
            <a:ext cx="299880" cy="299880"/>
            <a:chOff x="4191120" y="5791320"/>
            <a:chExt cx="299880" cy="299880"/>
          </a:xfrm>
        </p:grpSpPr>
        <p:sp>
          <p:nvSpPr>
            <p:cNvPr id="916" name=""/>
            <p:cNvSpPr/>
            <p:nvPr/>
          </p:nvSpPr>
          <p:spPr>
            <a:xfrm>
              <a:off x="4191120" y="579132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35400" y="5835600"/>
              <a:ext cx="209520" cy="209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91320" y="3429000"/>
            <a:ext cx="299880" cy="299880"/>
            <a:chOff x="5791320" y="3429000"/>
            <a:chExt cx="299880" cy="299880"/>
          </a:xfrm>
        </p:grpSpPr>
        <p:sp>
          <p:nvSpPr>
            <p:cNvPr id="919" name=""/>
            <p:cNvSpPr/>
            <p:nvPr/>
          </p:nvSpPr>
          <p:spPr>
            <a:xfrm>
              <a:off x="5791320" y="342900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35600" y="3473280"/>
              <a:ext cx="209520" cy="2113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11320"/>
                <a:gd name="textAreaBottom" fmla="*/ 210960 h 211320"/>
              </a:gdLst>
              <a:ahLst/>
              <a:rect l="textAreaLeft" t="textAreaTop" r="textAreaRight" b="textAreaBottom"/>
              <a:pathLst>
                <a:path w="21600" h="21785">
                  <a:moveTo>
                    <a:pt x="161" y="0"/>
                  </a:moveTo>
                  <a:arcTo wR="161" hR="161" stAng="16200000" swAng="-5400000"/>
                  <a:lnTo>
                    <a:pt x="0" y="21624"/>
                  </a:lnTo>
                  <a:arcTo wR="161" hR="161" stAng="10800000" swAng="-5400000"/>
                  <a:lnTo>
                    <a:pt x="21439" y="21785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715000" y="4267080"/>
            <a:ext cx="299880" cy="300240"/>
            <a:chOff x="5715000" y="4267080"/>
            <a:chExt cx="299880" cy="300240"/>
          </a:xfrm>
        </p:grpSpPr>
        <p:sp>
          <p:nvSpPr>
            <p:cNvPr id="922" name=""/>
            <p:cNvSpPr/>
            <p:nvPr/>
          </p:nvSpPr>
          <p:spPr>
            <a:xfrm>
              <a:off x="5715000" y="4267080"/>
              <a:ext cx="299880" cy="30024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59280" y="4311720"/>
              <a:ext cx="211320" cy="21096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791320" y="5715000"/>
            <a:ext cx="299880" cy="299880"/>
            <a:chOff x="5791320" y="5715000"/>
            <a:chExt cx="299880" cy="299880"/>
          </a:xfrm>
        </p:grpSpPr>
        <p:sp>
          <p:nvSpPr>
            <p:cNvPr id="925" name=""/>
            <p:cNvSpPr/>
            <p:nvPr/>
          </p:nvSpPr>
          <p:spPr>
            <a:xfrm>
              <a:off x="5791320" y="5715000"/>
              <a:ext cx="299880" cy="299880"/>
            </a:xfrm>
            <a:prstGeom prst="ellipse">
              <a:avLst/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5600" y="5759280"/>
              <a:ext cx="209520" cy="211320"/>
            </a:xfrm>
            <a:custGeom>
              <a:avLst/>
              <a:gdLst>
                <a:gd name="textAreaLeft" fmla="*/ 360 w 209520"/>
                <a:gd name="textAreaRight" fmla="*/ 209160 w 209520"/>
                <a:gd name="textAreaTop" fmla="*/ 360 h 211320"/>
                <a:gd name="textAreaBottom" fmla="*/ 210960 h 211320"/>
              </a:gdLst>
              <a:ahLst/>
              <a:rect l="textAreaLeft" t="textAreaTop" r="textAreaRight" b="textAreaBottom"/>
              <a:pathLst>
                <a:path w="21600" h="21785">
                  <a:moveTo>
                    <a:pt x="161" y="0"/>
                  </a:moveTo>
                  <a:arcTo wR="161" hR="161" stAng="16200000" swAng="-5400000"/>
                  <a:lnTo>
                    <a:pt x="0" y="21624"/>
                  </a:lnTo>
                  <a:arcTo wR="161" hR="161" stAng="10800000" swAng="-5400000"/>
                  <a:lnTo>
                    <a:pt x="21439" y="21785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H="1">
            <a:off x="3495600" y="3657600"/>
            <a:ext cx="704880" cy="7632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419280" y="4572000"/>
            <a:ext cx="780840" cy="14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495600" y="5857920"/>
            <a:ext cx="704880" cy="950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286000" y="3724200"/>
            <a:ext cx="1219320" cy="123840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133720" y="4562640"/>
            <a:ext cx="1295280" cy="62856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905120" y="4943520"/>
            <a:ext cx="1752480" cy="55224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485960" y="3657600"/>
            <a:ext cx="1314360" cy="76212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10000" y="3724200"/>
            <a:ext cx="1238400" cy="62856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4562280" y="5867280"/>
            <a:ext cx="1161720" cy="76320"/>
          </a:xfrm>
          <a:prstGeom prst="line">
            <a:avLst/>
          </a:prstGeom>
          <a:ln cap="sq" w="25560">
            <a:solidFill>
              <a:srgbClr val="339966"/>
            </a:solidFill>
            <a:custDash>
              <a:ds d="400000" sp="3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 - 1023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ldtuntud pordid, 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5       SM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80       HT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517     U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024 – 5000      klientprogrammide ajutised por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5000                muud (mitte-üldtuntud) serve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5480" y="1468440"/>
            <a:ext cx="7848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ootab mingil üldteada pordil ühenduskuts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reserveerib dünaamilise por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vastab kliendile tema pordinumbr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i võta vastu uut kutset enne eelneva töötlem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4876920" y="1752480"/>
            <a:ext cx="2133360" cy="182880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523880" y="1752480"/>
            <a:ext cx="2133720" cy="182880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09680" y="1219320"/>
            <a:ext cx="1371600" cy="457200"/>
          </a:xfrm>
          <a:prstGeom prst="wedgeEllipseCallout">
            <a:avLst>
              <a:gd name="adj1" fmla="val -43750"/>
              <a:gd name="adj2" fmla="val 86805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90720" y="6248520"/>
            <a:ext cx="678168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67280" y="6019920"/>
            <a:ext cx="180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514600" y="601992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581120" y="1828800"/>
            <a:ext cx="1828800" cy="506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75248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81120" y="24382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8604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81120" y="30481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88604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81120" y="3657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5600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81120" y="4267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6092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81120" y="48769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70028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81120" y="54864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73196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52880" y="1828800"/>
            <a:ext cx="1828800" cy="506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2460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4382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52880" y="30481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5780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952880" y="3657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776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952880" y="4267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3268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48769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7204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52880" y="54864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10408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10080" y="1219320"/>
            <a:ext cx="1371600" cy="457200"/>
          </a:xfrm>
          <a:prstGeom prst="wedgeEllipseCallout">
            <a:avLst>
              <a:gd name="adj1" fmla="val -39699"/>
              <a:gd name="adj2" fmla="val 7916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1400" y="1312920"/>
            <a:ext cx="38307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ri süsteemide samad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htide suhtlusvii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40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mavah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66680" y="6172200"/>
            <a:ext cx="67820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43600" y="594360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90920" y="5943600"/>
            <a:ext cx="144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3124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512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46520" y="1312920"/>
            <a:ext cx="38307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09600" indent="-309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ma süsteemi e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htide suhtlusvii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4640" indent="-25884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mavah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05720" y="3200400"/>
            <a:ext cx="1523880" cy="144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3720" y="365760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3124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86400" y="365760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505320" y="4038480"/>
            <a:ext cx="1523880" cy="457200"/>
          </a:xfrm>
          <a:prstGeom prst="leftRightArrow">
            <a:avLst>
              <a:gd name="adj1" fmla="val 50000"/>
              <a:gd name="adj2" fmla="val 66353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76520" y="39625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5560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133720" y="449568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57440" y="4800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7776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029200" y="3962520"/>
            <a:ext cx="1828800" cy="53316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0828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86400" y="449568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010120" y="480060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23044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57440" y="5410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29200" y="5410080"/>
            <a:ext cx="1828800" cy="533520"/>
          </a:xfrm>
          <a:prstGeom prst="rect">
            <a:avLst/>
          </a:prstGeom>
          <a:solidFill>
            <a:srgbClr val="b8dcca"/>
          </a:solidFill>
          <a:ln cap="sq"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317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Protok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09880" y="2590920"/>
            <a:ext cx="94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Li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91120" y="3809880"/>
            <a:ext cx="75960" cy="457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19720" y="2971800"/>
            <a:ext cx="152388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419720" y="2971800"/>
            <a:ext cx="1600200" cy="1600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2665440" y="2971800"/>
            <a:ext cx="145080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665440" y="2971800"/>
            <a:ext cx="1527120" cy="167652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66920" y="241200"/>
            <a:ext cx="66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8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uhtmed, võrguseadmed, arvut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357200"/>
            <a:ext cx="78058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0720" y="1303200"/>
            <a:ext cx="2700360" cy="229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0360" y="3419640"/>
            <a:ext cx="3419640" cy="301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00720" y="5024520"/>
            <a:ext cx="2666880" cy="109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97200" y="1289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80" y="1676520"/>
            <a:ext cx="784224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366920" y="260280"/>
            <a:ext cx="7167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1400" y="1312920"/>
            <a:ext cx="81676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 loovad (virtuaalse) ka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nne andemvahetust on vaja kanal luua ja pärast sulge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sapooled teavad teise olekut kommunikatsiooniprotses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vestlu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SMTP, TCP, A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 protokollide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uhtlus toimub paketi kau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munikatsioon on “küsimus-vastus vormi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440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äiteks DNS, NFS, UDP, IP, Eth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tokollip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442880" y="1447920"/>
          <a:ext cx="618984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447920"/>
                    <a:ext cx="618984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1031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2971800" y="5638680"/>
            <a:ext cx="3576600" cy="452520"/>
            <a:chOff x="2971800" y="5638680"/>
            <a:chExt cx="3576600" cy="452520"/>
          </a:xfrm>
        </p:grpSpPr>
        <p:sp>
          <p:nvSpPr>
            <p:cNvPr id="1034" name=""/>
            <p:cNvSpPr/>
            <p:nvPr/>
          </p:nvSpPr>
          <p:spPr>
            <a:xfrm>
              <a:off x="2971800" y="5638680"/>
              <a:ext cx="3576600" cy="4525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1800" y="5638680"/>
              <a:ext cx="357660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971800" y="5029200"/>
            <a:ext cx="3576600" cy="452520"/>
            <a:chOff x="2971800" y="5029200"/>
            <a:chExt cx="3576600" cy="452520"/>
          </a:xfrm>
        </p:grpSpPr>
        <p:sp>
          <p:nvSpPr>
            <p:cNvPr id="1037" name=""/>
            <p:cNvSpPr/>
            <p:nvPr/>
          </p:nvSpPr>
          <p:spPr>
            <a:xfrm>
              <a:off x="2971800" y="5029200"/>
              <a:ext cx="3576600" cy="4525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71800" y="5029200"/>
              <a:ext cx="357660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895480" y="4038480"/>
            <a:ext cx="3576600" cy="528840"/>
            <a:chOff x="2895480" y="4038480"/>
            <a:chExt cx="3576600" cy="528840"/>
          </a:xfrm>
        </p:grpSpPr>
        <p:sp>
          <p:nvSpPr>
            <p:cNvPr id="1040" name=""/>
            <p:cNvSpPr/>
            <p:nvPr/>
          </p:nvSpPr>
          <p:spPr>
            <a:xfrm>
              <a:off x="2895480" y="4038480"/>
              <a:ext cx="3576600" cy="52884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95480" y="4038480"/>
              <a:ext cx="3576600" cy="52884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133720" y="2666880"/>
            <a:ext cx="1595160" cy="757440"/>
            <a:chOff x="2133720" y="2666880"/>
            <a:chExt cx="1595160" cy="757440"/>
          </a:xfrm>
        </p:grpSpPr>
        <p:sp>
          <p:nvSpPr>
            <p:cNvPr id="1043" name=""/>
            <p:cNvSpPr/>
            <p:nvPr/>
          </p:nvSpPr>
          <p:spPr>
            <a:xfrm>
              <a:off x="2133720" y="2666880"/>
              <a:ext cx="1595160" cy="75744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33720" y="2666880"/>
              <a:ext cx="1595160" cy="75744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562720" y="2743200"/>
            <a:ext cx="1595160" cy="757080"/>
            <a:chOff x="5562720" y="2743200"/>
            <a:chExt cx="1595160" cy="757080"/>
          </a:xfrm>
        </p:grpSpPr>
        <p:sp>
          <p:nvSpPr>
            <p:cNvPr id="1046" name=""/>
            <p:cNvSpPr/>
            <p:nvPr/>
          </p:nvSpPr>
          <p:spPr>
            <a:xfrm>
              <a:off x="5562720" y="2743200"/>
              <a:ext cx="1595160" cy="7570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62720" y="2743200"/>
              <a:ext cx="1595160" cy="7570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1219320" y="1600200"/>
            <a:ext cx="1062000" cy="681120"/>
            <a:chOff x="1219320" y="1600200"/>
            <a:chExt cx="1062000" cy="681120"/>
          </a:xfrm>
        </p:grpSpPr>
        <p:sp>
          <p:nvSpPr>
            <p:cNvPr id="1049" name=""/>
            <p:cNvSpPr/>
            <p:nvPr/>
          </p:nvSpPr>
          <p:spPr>
            <a:xfrm>
              <a:off x="12193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193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438280" y="1600200"/>
            <a:ext cx="1062000" cy="681120"/>
            <a:chOff x="2438280" y="1600200"/>
            <a:chExt cx="1062000" cy="681120"/>
          </a:xfrm>
        </p:grpSpPr>
        <p:sp>
          <p:nvSpPr>
            <p:cNvPr id="1052" name=""/>
            <p:cNvSpPr/>
            <p:nvPr/>
          </p:nvSpPr>
          <p:spPr>
            <a:xfrm>
              <a:off x="243828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657600" y="1600200"/>
            <a:ext cx="1062000" cy="681120"/>
            <a:chOff x="3657600" y="1600200"/>
            <a:chExt cx="1062000" cy="681120"/>
          </a:xfrm>
        </p:grpSpPr>
        <p:sp>
          <p:nvSpPr>
            <p:cNvPr id="1055" name=""/>
            <p:cNvSpPr/>
            <p:nvPr/>
          </p:nvSpPr>
          <p:spPr>
            <a:xfrm>
              <a:off x="365760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65760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334120" y="1600200"/>
            <a:ext cx="1062000" cy="681120"/>
            <a:chOff x="5334120" y="1600200"/>
            <a:chExt cx="1062000" cy="681120"/>
          </a:xfrm>
        </p:grpSpPr>
        <p:sp>
          <p:nvSpPr>
            <p:cNvPr id="1058" name=""/>
            <p:cNvSpPr/>
            <p:nvPr/>
          </p:nvSpPr>
          <p:spPr>
            <a:xfrm>
              <a:off x="53341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341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6705720" y="1600200"/>
            <a:ext cx="1062000" cy="681120"/>
            <a:chOff x="6705720" y="1600200"/>
            <a:chExt cx="1062000" cy="681120"/>
          </a:xfrm>
        </p:grpSpPr>
        <p:sp>
          <p:nvSpPr>
            <p:cNvPr id="1061" name=""/>
            <p:cNvSpPr/>
            <p:nvPr/>
          </p:nvSpPr>
          <p:spPr>
            <a:xfrm>
              <a:off x="6705720" y="1600200"/>
              <a:ext cx="1062000" cy="6811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05720" y="1600200"/>
              <a:ext cx="1062000" cy="6811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cap="sq"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066680" y="4028760"/>
            <a:ext cx="838440" cy="131436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3190680" y="3495240"/>
            <a:ext cx="399960" cy="3999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410080" y="3571560"/>
            <a:ext cx="38124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629400" y="2352600"/>
            <a:ext cx="38088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010200" y="2352600"/>
            <a:ext cx="17136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2124000" y="2276280"/>
            <a:ext cx="17136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895480" y="2352600"/>
            <a:ext cx="1800" cy="2476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429000" y="2276280"/>
            <a:ext cx="304920" cy="3236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648320" y="4638600"/>
            <a:ext cx="1440" cy="324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648320" y="5477040"/>
            <a:ext cx="1440" cy="1713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6619680" y="5334120"/>
            <a:ext cx="857160" cy="14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cap="sq" w="25560">
            <a:solidFill>
              <a:srgbClr val="3333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09480" y="2276640"/>
            <a:ext cx="609840" cy="62856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934320" y="4114800"/>
            <a:ext cx="1595160" cy="1900080"/>
            <a:chOff x="6934320" y="4114800"/>
            <a:chExt cx="1595160" cy="1900080"/>
          </a:xfrm>
        </p:grpSpPr>
        <p:sp>
          <p:nvSpPr>
            <p:cNvPr id="1084" name=""/>
            <p:cNvSpPr/>
            <p:nvPr/>
          </p:nvSpPr>
          <p:spPr>
            <a:xfrm>
              <a:off x="6934320" y="4114800"/>
              <a:ext cx="1595160" cy="1900080"/>
            </a:xfrm>
            <a:custGeom>
              <a:avLst/>
              <a:gdLst>
                <a:gd name="textAreaLeft" fmla="*/ 360 w 1595160"/>
                <a:gd name="textAreaRight" fmla="*/ 1594800 w 1595160"/>
                <a:gd name="textAreaTop" fmla="*/ 360 h 1900080"/>
                <a:gd name="textAreaBottom" fmla="*/ 1899720 h 1900080"/>
              </a:gdLst>
              <a:ahLst/>
              <a:rect l="textAreaLeft" t="textAreaTop" r="textAreaRight" b="textAreaBottom"/>
              <a:pathLst>
                <a:path w="21600" h="25728">
                  <a:moveTo>
                    <a:pt x="21" y="0"/>
                  </a:moveTo>
                  <a:arcTo wR="21" hR="21" stAng="16200000" swAng="-5400000"/>
                  <a:lnTo>
                    <a:pt x="0" y="25707"/>
                  </a:lnTo>
                  <a:arcTo wR="21" hR="21" stAng="10800000" swAng="-5400000"/>
                  <a:lnTo>
                    <a:pt x="21579" y="25728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34320" y="4114800"/>
              <a:ext cx="1595160" cy="1900080"/>
            </a:xfrm>
            <a:custGeom>
              <a:avLst/>
              <a:gdLst>
                <a:gd name="textAreaLeft" fmla="*/ 360 w 1595160"/>
                <a:gd name="textAreaRight" fmla="*/ 1594800 w 1595160"/>
                <a:gd name="textAreaTop" fmla="*/ 360 h 1900080"/>
                <a:gd name="textAreaBottom" fmla="*/ 1899720 h 1900080"/>
              </a:gdLst>
              <a:ahLst/>
              <a:rect l="textAreaLeft" t="textAreaTop" r="textAreaRight" b="textAreaBottom"/>
              <a:pathLst>
                <a:path w="21600" h="25728">
                  <a:moveTo>
                    <a:pt x="21" y="0"/>
                  </a:moveTo>
                  <a:arcTo wR="21" hR="21" stAng="16200000" swAng="-5400000"/>
                  <a:lnTo>
                    <a:pt x="0" y="25707"/>
                  </a:lnTo>
                  <a:arcTo wR="21" hR="21" stAng="10800000" swAng="-5400000"/>
                  <a:lnTo>
                    <a:pt x="21579" y="25728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3343320" y="2580840"/>
            <a:ext cx="3295440" cy="13906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Mozilla, Ie, Konqueror, ..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6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tame telnet ühenduse masin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ijkstra.cs.ttu.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orti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ipime sisse, seejärel tipime kaks reavahe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index.html HTTP/1.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9480" y="1905120"/>
            <a:ext cx="228600" cy="2622600"/>
          </a:xfrm>
          <a:prstGeom prst="pie">
            <a:avLst/>
          </a:pr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80880" y="4799160"/>
            <a:ext cx="609840" cy="4680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924680" y="5148360"/>
            <a:ext cx="609840" cy="1371600"/>
          </a:xfrm>
          <a:prstGeom prst="pie">
            <a:avLst/>
          </a:pr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903080" y="420696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1366920" y="195120"/>
            <a:ext cx="6670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imed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38080" y="1066680"/>
            <a:ext cx="78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ul avalikel serveritel  on DNS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gl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l on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3.40.254.28 – neli täisarvu 0-2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294967296 unikaalset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 on seotud tema füüsilise asukohaga võr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tide marsruutimine käib IP aadressi jär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NS nimede ja IP aadresside teisendust teeb DNS tee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Pv6 aadres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001:0db8:85a3:0000:0000:8a2e:0370:7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340282366920938463463374607431768211456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l on tavaliselt Etherneti (MAC )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kohtvõrgu pi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64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õltub võrguliides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 www.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tu.e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ttu.ee   &lt;--&gt;     193.40.254.1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0"/>
            <a:ext cx="812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70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960" y="3033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348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cap="sq" w="25560">
            <a:solidFill>
              <a:srgbClr val="3333ff"/>
            </a:solidFill>
            <a:custDash>
              <a:ds d="100000" sp="100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09640" y="2209680"/>
            <a:ext cx="1924200" cy="10670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3680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6560" y="4724280"/>
            <a:ext cx="5459040" cy="1486080"/>
            <a:chOff x="556560" y="4724280"/>
            <a:chExt cx="5459040" cy="1486080"/>
          </a:xfrm>
        </p:grpSpPr>
        <p:sp>
          <p:nvSpPr>
            <p:cNvPr id="82" name=""/>
            <p:cNvSpPr/>
            <p:nvPr/>
          </p:nvSpPr>
          <p:spPr>
            <a:xfrm>
              <a:off x="609480" y="4724280"/>
              <a:ext cx="5310360" cy="1486080"/>
            </a:xfrm>
            <a:prstGeom prst="roundRect">
              <a:avLst>
                <a:gd name="adj" fmla="val 106"/>
              </a:avLst>
            </a:prstGeom>
            <a:noFill/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65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2012 novembris oli registreeritud ca 200 000 000 domeenin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ailmas on ca 20 miljonit DNS server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on “DNS hiearhia” ülemiste, nn root serverite asukoh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 nimede 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112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139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192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218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 flipV="1">
            <a:off x="1751040" y="3672000"/>
            <a:ext cx="635040" cy="84456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227320" y="4343400"/>
            <a:ext cx="2343240" cy="1055520"/>
            <a:chOff x="2227320" y="4343400"/>
            <a:chExt cx="2343240" cy="1055520"/>
          </a:xfrm>
        </p:grpSpPr>
        <p:sp>
          <p:nvSpPr>
            <p:cNvPr id="1244" name=""/>
            <p:cNvSpPr/>
            <p:nvPr/>
          </p:nvSpPr>
          <p:spPr>
            <a:xfrm>
              <a:off x="2227320" y="4343400"/>
              <a:ext cx="2343240" cy="105552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3200" y="4552920"/>
              <a:ext cx="19972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rvut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ma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251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nn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 mis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lline vastus on tüüpi “referr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281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1308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1334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1360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386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413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439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6781680" y="3581280"/>
            <a:ext cx="2148120" cy="1054080"/>
            <a:chOff x="6781680" y="3581280"/>
            <a:chExt cx="2148120" cy="1054080"/>
          </a:xfrm>
        </p:grpSpPr>
        <p:sp>
          <p:nvSpPr>
            <p:cNvPr id="1491" name=""/>
            <p:cNvSpPr/>
            <p:nvPr/>
          </p:nvSpPr>
          <p:spPr>
            <a:xfrm>
              <a:off x="6781680" y="3581280"/>
              <a:ext cx="214812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07400" y="3790800"/>
              <a:ext cx="18316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 flipV="1">
            <a:off x="3409920" y="2587680"/>
            <a:ext cx="2452680" cy="30960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495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525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1552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2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1578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1604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1630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1657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1683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1709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06680" y="2421000"/>
            <a:ext cx="2341800" cy="1054080"/>
            <a:chOff x="3406680" y="2421000"/>
            <a:chExt cx="2341800" cy="1054080"/>
          </a:xfrm>
        </p:grpSpPr>
        <p:sp>
          <p:nvSpPr>
            <p:cNvPr id="1736" name=""/>
            <p:cNvSpPr/>
            <p:nvPr/>
          </p:nvSpPr>
          <p:spPr>
            <a:xfrm>
              <a:off x="3406680" y="2421000"/>
              <a:ext cx="234180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52920" y="2522520"/>
              <a:ext cx="1998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1739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1766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6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1792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1818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1844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1871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7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1898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1950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teat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meeni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1979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006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032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058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8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084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2111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1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6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2137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2163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6934320" y="2440080"/>
            <a:ext cx="1979640" cy="1520640"/>
            <a:chOff x="6934320" y="2440080"/>
            <a:chExt cx="1979640" cy="1520640"/>
          </a:xfrm>
        </p:grpSpPr>
        <p:sp>
          <p:nvSpPr>
            <p:cNvPr id="2190" name=""/>
            <p:cNvSpPr/>
            <p:nvPr/>
          </p:nvSpPr>
          <p:spPr>
            <a:xfrm>
              <a:off x="6934320" y="2440080"/>
              <a:ext cx="1979640" cy="152064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142040" y="2587680"/>
              <a:ext cx="16891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2193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2220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2247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2273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3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2299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2324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0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2351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6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2377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2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2403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rver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2432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8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459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9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4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485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0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511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6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537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2564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2590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5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2616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0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43941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3333600" y="2440080"/>
            <a:ext cx="2340000" cy="1054080"/>
            <a:chOff x="3333600" y="2440080"/>
            <a:chExt cx="2340000" cy="1054080"/>
          </a:xfrm>
        </p:grpSpPr>
        <p:sp>
          <p:nvSpPr>
            <p:cNvPr id="2643" name=""/>
            <p:cNvSpPr/>
            <p:nvPr/>
          </p:nvSpPr>
          <p:spPr>
            <a:xfrm>
              <a:off x="3333600" y="2440080"/>
              <a:ext cx="2340000" cy="105408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578400" y="2541600"/>
              <a:ext cx="19969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6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2647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2674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0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2701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6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2727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7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2753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3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2778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2805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0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2831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1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2857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7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aadab vastusek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2886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2913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8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2939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4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2965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9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2991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3018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3044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4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9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3070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0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43941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6" name=""/>
          <p:cNvGrpSpPr/>
          <p:nvPr/>
        </p:nvGrpSpPr>
        <p:grpSpPr>
          <a:xfrm>
            <a:off x="2209680" y="4495680"/>
            <a:ext cx="2197080" cy="1009800"/>
            <a:chOff x="2209680" y="4495680"/>
            <a:chExt cx="2197080" cy="1009800"/>
          </a:xfrm>
        </p:grpSpPr>
        <p:sp>
          <p:nvSpPr>
            <p:cNvPr id="3097" name=""/>
            <p:cNvSpPr/>
            <p:nvPr/>
          </p:nvSpPr>
          <p:spPr>
            <a:xfrm>
              <a:off x="2209680" y="4495680"/>
              <a:ext cx="2197080" cy="100980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390760" y="4695840"/>
              <a:ext cx="1873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9" name="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0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3101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6781680" y="4114440"/>
            <a:ext cx="630360" cy="1073520"/>
            <a:chOff x="6781680" y="4114440"/>
            <a:chExt cx="630360" cy="1073520"/>
          </a:xfrm>
        </p:grpSpPr>
        <p:sp>
          <p:nvSpPr>
            <p:cNvPr id="3128" name=""/>
            <p:cNvSpPr/>
            <p:nvPr/>
          </p:nvSpPr>
          <p:spPr>
            <a:xfrm flipV="1">
              <a:off x="6781680" y="411408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 flipV="1">
              <a:off x="6794640" y="5141880"/>
              <a:ext cx="6094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815160" y="411480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819840" y="41227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784920" y="4119480"/>
              <a:ext cx="2376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381800" y="4119480"/>
              <a:ext cx="2700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381800" y="4114800"/>
              <a:ext cx="0" cy="10288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V="1">
              <a:off x="6834240" y="4186080"/>
              <a:ext cx="109440" cy="223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4121">
                  <a:moveTo>
                    <a:pt x="0" y="0"/>
                  </a:moveTo>
                  <a:arcTo wR="0" hR="0" stAng="16200000" swAng="-5400000"/>
                  <a:lnTo>
                    <a:pt x="0" y="44121"/>
                  </a:lnTo>
                  <a:arcTo wR="0" hR="0" stAng="10800000" swAng="-5400000"/>
                  <a:lnTo>
                    <a:pt x="21600" y="441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6848640" y="419976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V="1">
              <a:off x="6850080" y="4334760"/>
              <a:ext cx="7920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50080" y="4204440"/>
              <a:ext cx="33480" cy="127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81345">
                  <a:moveTo>
                    <a:pt x="0" y="0"/>
                  </a:moveTo>
                  <a:arcTo wR="0" hR="0" stAng="16200000" swAng="-5400000"/>
                  <a:lnTo>
                    <a:pt x="0" y="81345"/>
                  </a:lnTo>
                  <a:arcTo wR="0" hR="0" stAng="10800000" swAng="-5400000"/>
                  <a:lnTo>
                    <a:pt x="21600" y="8134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6902280" y="42076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6858000" y="424116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21600" h="90400">
                  <a:moveTo>
                    <a:pt x="0" y="0"/>
                  </a:moveTo>
                  <a:arcTo wR="0" hR="0" stAng="16200000" swAng="-5400000"/>
                  <a:lnTo>
                    <a:pt x="0" y="90400"/>
                  </a:lnTo>
                  <a:arcTo wR="0" hR="0" stAng="10800000" swAng="-5400000"/>
                  <a:lnTo>
                    <a:pt x="21600" y="9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859440" y="4240080"/>
              <a:ext cx="19080" cy="50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6886440" y="4204440"/>
              <a:ext cx="1800" cy="1270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1274400">
                  <a:moveTo>
                    <a:pt x="0" y="0"/>
                  </a:moveTo>
                  <a:arcTo wR="0" hR="0" stAng="16200000" swAng="-5400000"/>
                  <a:lnTo>
                    <a:pt x="0" y="1274400"/>
                  </a:lnTo>
                  <a:arcTo wR="0" hR="0" stAng="10800000" swAng="-5400000"/>
                  <a:lnTo>
                    <a:pt x="21600" y="127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6897600" y="4207680"/>
              <a:ext cx="6480" cy="111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352421">
                  <a:moveTo>
                    <a:pt x="0" y="0"/>
                  </a:moveTo>
                  <a:arcTo wR="0" hR="0" stAng="16200000" swAng="-5400000"/>
                  <a:lnTo>
                    <a:pt x="0" y="352421"/>
                  </a:lnTo>
                  <a:arcTo wR="0" hR="0" stAng="10800000" swAng="-5400000"/>
                  <a:lnTo>
                    <a:pt x="21600" y="35242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6872400" y="434340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858000" y="435132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858000" y="4370400"/>
              <a:ext cx="6480" cy="79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834240" y="4186080"/>
              <a:ext cx="115920" cy="22716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6908760" y="434412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978600" y="4195800"/>
              <a:ext cx="3808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6978600" y="42300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978600" y="4276800"/>
              <a:ext cx="3747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6978600" y="43203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6978600" y="43617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6997680" y="4195800"/>
              <a:ext cx="343080" cy="210960"/>
              <a:chOff x="6997680" y="4195800"/>
              <a:chExt cx="343080" cy="210960"/>
            </a:xfrm>
          </p:grpSpPr>
          <p:sp>
            <p:nvSpPr>
              <p:cNvPr id="3155" name=""/>
              <p:cNvSpPr/>
              <p:nvPr/>
            </p:nvSpPr>
            <p:spPr>
              <a:xfrm>
                <a:off x="699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0178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033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0513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068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0858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0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12404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14312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1604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17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1949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21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67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286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30260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32168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340760" y="41958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5" name=""/>
            <p:cNvSpPr/>
            <p:nvPr/>
          </p:nvSpPr>
          <p:spPr>
            <a:xfrm flipV="1">
              <a:off x="6978600" y="455688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6978600" y="459360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6978600" y="46378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6978600" y="4681440"/>
              <a:ext cx="3747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6978600" y="472536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6997680" y="4557600"/>
              <a:ext cx="343080" cy="211320"/>
              <a:chOff x="6997680" y="4557600"/>
              <a:chExt cx="343080" cy="211320"/>
            </a:xfrm>
          </p:grpSpPr>
          <p:sp>
            <p:nvSpPr>
              <p:cNvPr id="3181" name=""/>
              <p:cNvSpPr/>
              <p:nvPr/>
            </p:nvSpPr>
            <p:spPr>
              <a:xfrm>
                <a:off x="699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0178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033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0513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068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0858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10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12404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14312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1604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17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1949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21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23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25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267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286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30260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32168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340760" y="455760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1" name=""/>
            <p:cNvSpPr/>
            <p:nvPr/>
          </p:nvSpPr>
          <p:spPr>
            <a:xfrm flipV="1">
              <a:off x="6978600" y="4901400"/>
              <a:ext cx="3808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978600" y="493956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V="1">
              <a:off x="6978600" y="498240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6978600" y="5028480"/>
              <a:ext cx="3747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V="1">
              <a:off x="6978600" y="5071320"/>
              <a:ext cx="3747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6" name=""/>
            <p:cNvGrpSpPr/>
            <p:nvPr/>
          </p:nvGrpSpPr>
          <p:grpSpPr>
            <a:xfrm>
              <a:off x="6997680" y="4905360"/>
              <a:ext cx="343080" cy="209520"/>
              <a:chOff x="6997680" y="4905360"/>
              <a:chExt cx="343080" cy="209520"/>
            </a:xfrm>
          </p:grpSpPr>
          <p:sp>
            <p:nvSpPr>
              <p:cNvPr id="3207" name=""/>
              <p:cNvSpPr/>
              <p:nvPr/>
            </p:nvSpPr>
            <p:spPr>
              <a:xfrm>
                <a:off x="699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178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033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0513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068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0858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0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12404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14312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1604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17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1949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21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23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25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267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286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0260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32168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40760" y="4905360"/>
                <a:ext cx="0" cy="2095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 flipV="1">
              <a:off x="6834240" y="4451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34240" y="4451400"/>
              <a:ext cx="9828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6834240" y="4494240"/>
              <a:ext cx="1396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834240" y="4495680"/>
              <a:ext cx="1429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4552920" y="3698640"/>
            <a:ext cx="628560" cy="1074960"/>
            <a:chOff x="4552920" y="3698640"/>
            <a:chExt cx="628560" cy="1074960"/>
          </a:xfrm>
        </p:grpSpPr>
        <p:sp>
          <p:nvSpPr>
            <p:cNvPr id="3232" name=""/>
            <p:cNvSpPr/>
            <p:nvPr/>
          </p:nvSpPr>
          <p:spPr>
            <a:xfrm flipV="1">
              <a:off x="4552920" y="3698280"/>
              <a:ext cx="628560" cy="10270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87">
                  <a:moveTo>
                    <a:pt x="0" y="0"/>
                  </a:moveTo>
                  <a:arcTo wR="0" hR="0" stAng="16200000" swAng="-5400000"/>
                  <a:lnTo>
                    <a:pt x="0" y="35287"/>
                  </a:lnTo>
                  <a:arcTo wR="0" hR="0" stAng="10800000" swAng="-5400000"/>
                  <a:lnTo>
                    <a:pt x="21600" y="352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4565520" y="4727520"/>
              <a:ext cx="60804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584600" y="369900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587840" y="3706920"/>
              <a:ext cx="555840" cy="10144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554360" y="3703680"/>
              <a:ext cx="2412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153040" y="3703680"/>
              <a:ext cx="27000" cy="10177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153040" y="3699000"/>
              <a:ext cx="0" cy="103176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4606920" y="3771360"/>
              <a:ext cx="108000" cy="22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21600" h="44635">
                  <a:moveTo>
                    <a:pt x="0" y="0"/>
                  </a:moveTo>
                  <a:arcTo wR="0" hR="0" stAng="16200000" swAng="-5400000"/>
                  <a:lnTo>
                    <a:pt x="0" y="44635"/>
                  </a:lnTo>
                  <a:arcTo wR="0" hR="0" stAng="10800000" swAng="-5400000"/>
                  <a:lnTo>
                    <a:pt x="21600" y="446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4618080" y="3783960"/>
              <a:ext cx="84240" cy="198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737">
                  <a:moveTo>
                    <a:pt x="0" y="0"/>
                  </a:moveTo>
                  <a:arcTo wR="0" hR="0" stAng="16200000" swAng="-5400000"/>
                  <a:lnTo>
                    <a:pt x="0" y="50737"/>
                  </a:lnTo>
                  <a:arcTo wR="0" hR="0" stAng="10800000" swAng="-5400000"/>
                  <a:lnTo>
                    <a:pt x="21600" y="507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621320" y="3920400"/>
              <a:ext cx="79200" cy="5724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4621320" y="3789360"/>
              <a:ext cx="33120" cy="125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81058">
                  <a:moveTo>
                    <a:pt x="0" y="0"/>
                  </a:moveTo>
                  <a:arcTo wR="0" hR="0" stAng="16200000" swAng="-5400000"/>
                  <a:lnTo>
                    <a:pt x="0" y="81058"/>
                  </a:lnTo>
                  <a:arcTo wR="0" hR="0" stAng="10800000" swAng="-5400000"/>
                  <a:lnTo>
                    <a:pt x="21600" y="8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4672080" y="3791880"/>
              <a:ext cx="22320" cy="111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106286">
                  <a:moveTo>
                    <a:pt x="0" y="0"/>
                  </a:moveTo>
                  <a:arcTo wR="0" hR="0" stAng="16200000" swAng="-5400000"/>
                  <a:lnTo>
                    <a:pt x="0" y="106286"/>
                  </a:lnTo>
                  <a:arcTo wR="0" hR="0" stAng="10800000" swAng="-5400000"/>
                  <a:lnTo>
                    <a:pt x="21600" y="1062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4629240" y="382356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4629240" y="382356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656240" y="378936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V="1">
              <a:off x="4667400" y="379188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V="1">
              <a:off x="4641840" y="3929040"/>
              <a:ext cx="6480" cy="475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1200">
                  <a:moveTo>
                    <a:pt x="0" y="0"/>
                  </a:moveTo>
                  <a:arcTo wR="0" hR="0" stAng="16200000" swAng="-5400000"/>
                  <a:lnTo>
                    <a:pt x="0" y="151200"/>
                  </a:lnTo>
                  <a:arcTo wR="0" hR="0" stAng="10800000" swAng="-5400000"/>
                  <a:lnTo>
                    <a:pt x="21600" y="151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29240" y="393372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629240" y="3956040"/>
              <a:ext cx="46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603680" y="3772080"/>
              <a:ext cx="115920" cy="2268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4678200" y="3929760"/>
              <a:ext cx="6480" cy="16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16200"/>
                <a:gd name="textAreaBottom" fmla="*/ 16200 h 16200"/>
              </a:gdLst>
              <a:ahLst/>
              <a:rect l="textAreaLeft" t="textAreaTop" r="textAreaRight" b="textAreaBottom"/>
              <a:pathLst>
                <a:path w="21600" h="52295">
                  <a:moveTo>
                    <a:pt x="0" y="0"/>
                  </a:moveTo>
                  <a:arcTo wR="0" hR="0" stAng="16200000" swAng="-5400000"/>
                  <a:lnTo>
                    <a:pt x="0" y="52295"/>
                  </a:lnTo>
                  <a:arcTo wR="0" hR="0" stAng="10800000" swAng="-5400000"/>
                  <a:lnTo>
                    <a:pt x="21600" y="522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748040" y="3777480"/>
              <a:ext cx="37944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V="1">
              <a:off x="4748040" y="381564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748040" y="385848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4748040" y="390456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748040" y="394740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768920" y="3780000"/>
              <a:ext cx="341280" cy="210960"/>
              <a:chOff x="4768920" y="3780000"/>
              <a:chExt cx="341280" cy="210960"/>
            </a:xfrm>
          </p:grpSpPr>
          <p:sp>
            <p:nvSpPr>
              <p:cNvPr id="3259" name=""/>
              <p:cNvSpPr/>
              <p:nvPr/>
            </p:nvSpPr>
            <p:spPr>
              <a:xfrm>
                <a:off x="47689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7876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80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820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838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8553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8744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89348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9143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93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94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96476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820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00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37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56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7384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112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110200" y="378000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 flipV="1">
              <a:off x="4748040" y="4141800"/>
              <a:ext cx="37944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4748040" y="4179960"/>
              <a:ext cx="376560" cy="1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4748040" y="422208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4748040" y="426708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4748040" y="4309920"/>
              <a:ext cx="37656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4" name=""/>
            <p:cNvGrpSpPr/>
            <p:nvPr/>
          </p:nvGrpSpPr>
          <p:grpSpPr>
            <a:xfrm>
              <a:off x="4768920" y="4143240"/>
              <a:ext cx="341280" cy="211320"/>
              <a:chOff x="4768920" y="4143240"/>
              <a:chExt cx="341280" cy="211320"/>
            </a:xfrm>
          </p:grpSpPr>
          <p:sp>
            <p:nvSpPr>
              <p:cNvPr id="3285" name=""/>
              <p:cNvSpPr/>
              <p:nvPr/>
            </p:nvSpPr>
            <p:spPr>
              <a:xfrm>
                <a:off x="47689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7876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0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820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838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8553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8744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89348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9143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93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494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496476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9820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0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2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37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56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7384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9112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110200" y="414324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5" name=""/>
            <p:cNvSpPr/>
            <p:nvPr/>
          </p:nvSpPr>
          <p:spPr>
            <a:xfrm flipV="1">
              <a:off x="4748040" y="4487040"/>
              <a:ext cx="37944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748040" y="452520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4748040" y="456804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4748040" y="4614120"/>
              <a:ext cx="37656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4748040" y="4656960"/>
              <a:ext cx="37656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0" name=""/>
            <p:cNvGrpSpPr/>
            <p:nvPr/>
          </p:nvGrpSpPr>
          <p:grpSpPr>
            <a:xfrm>
              <a:off x="4768920" y="4489560"/>
              <a:ext cx="341280" cy="210960"/>
              <a:chOff x="4768920" y="4489560"/>
              <a:chExt cx="341280" cy="210960"/>
            </a:xfrm>
          </p:grpSpPr>
          <p:sp>
            <p:nvSpPr>
              <p:cNvPr id="3311" name=""/>
              <p:cNvSpPr/>
              <p:nvPr/>
            </p:nvSpPr>
            <p:spPr>
              <a:xfrm>
                <a:off x="47689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7876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80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820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838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8553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8744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89348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9143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93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94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96476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9820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2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7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56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7384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9112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110200" y="44895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1" name=""/>
            <p:cNvSpPr/>
            <p:nvPr/>
          </p:nvSpPr>
          <p:spPr>
            <a:xfrm flipV="1">
              <a:off x="4606920" y="403704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603680" y="4037040"/>
              <a:ext cx="98640" cy="2520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4606920" y="4079880"/>
              <a:ext cx="13824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603680" y="4079880"/>
              <a:ext cx="14436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3370320" y="2486160"/>
            <a:ext cx="2195280" cy="1008000"/>
            <a:chOff x="3370320" y="2486160"/>
            <a:chExt cx="2195280" cy="1008000"/>
          </a:xfrm>
        </p:grpSpPr>
        <p:sp>
          <p:nvSpPr>
            <p:cNvPr id="3336" name=""/>
            <p:cNvSpPr/>
            <p:nvPr/>
          </p:nvSpPr>
          <p:spPr>
            <a:xfrm>
              <a:off x="3370320" y="2486160"/>
              <a:ext cx="2195280" cy="1008000"/>
            </a:xfrm>
            <a:prstGeom prst="pie">
              <a:avLst/>
            </a:prstGeom>
            <a:solidFill>
              <a:srgbClr val="c0c0c0"/>
            </a:solidFill>
            <a:ln cap="sq"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00360" y="2583000"/>
              <a:ext cx="1871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8" name=""/>
          <p:cNvSpPr/>
          <p:nvPr/>
        </p:nvSpPr>
        <p:spPr>
          <a:xfrm flipV="1">
            <a:off x="1817640" y="3669840"/>
            <a:ext cx="571680" cy="777960"/>
          </a:xfrm>
          <a:prstGeom prst="line">
            <a:avLst/>
          </a:prstGeom>
          <a:ln cap="sq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398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astab masinal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ja saad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3" name=""/>
          <p:cNvGrpSpPr/>
          <p:nvPr/>
        </p:nvGrpSpPr>
        <p:grpSpPr>
          <a:xfrm>
            <a:off x="5986440" y="2457000"/>
            <a:ext cx="630360" cy="1074600"/>
            <a:chOff x="5986440" y="2457000"/>
            <a:chExt cx="630360" cy="1074600"/>
          </a:xfrm>
        </p:grpSpPr>
        <p:sp>
          <p:nvSpPr>
            <p:cNvPr id="3344" name=""/>
            <p:cNvSpPr/>
            <p:nvPr/>
          </p:nvSpPr>
          <p:spPr>
            <a:xfrm flipV="1">
              <a:off x="5986440" y="2456640"/>
              <a:ext cx="630360" cy="10256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-360 h 1025640"/>
                <a:gd name="textAreaBottom" fmla="*/ 1025640 h 1025640"/>
              </a:gdLst>
              <a:ahLst/>
              <a:rect l="textAreaLeft" t="textAreaTop" r="textAreaRight" b="textAreaBottom"/>
              <a:pathLst>
                <a:path w="21600" h="35137">
                  <a:moveTo>
                    <a:pt x="0" y="0"/>
                  </a:moveTo>
                  <a:arcTo wR="0" hR="0" stAng="16200000" swAng="-5400000"/>
                  <a:lnTo>
                    <a:pt x="0" y="35137"/>
                  </a:lnTo>
                  <a:arcTo wR="0" hR="0" stAng="10800000" swAng="-5400000"/>
                  <a:lnTo>
                    <a:pt x="21600" y="351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5999040" y="3485520"/>
              <a:ext cx="609840" cy="457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019920" y="2458440"/>
              <a:ext cx="0" cy="102564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022800" y="2466360"/>
              <a:ext cx="557280" cy="101484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2461680"/>
              <a:ext cx="2376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586560" y="2461680"/>
              <a:ext cx="27000" cy="101628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586560" y="2458440"/>
              <a:ext cx="0" cy="10306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6040440" y="2530080"/>
              <a:ext cx="109440" cy="221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1760"/>
                <a:gd name="textAreaBottom" fmla="*/ 222480 h 221760"/>
              </a:gdLst>
              <a:ahLst/>
              <a:rect l="textAreaLeft" t="textAreaTop" r="textAreaRight" b="textAreaBottom"/>
              <a:pathLst>
                <a:path w="21600" h="43696">
                  <a:moveTo>
                    <a:pt x="0" y="0"/>
                  </a:moveTo>
                  <a:arcTo wR="0" hR="0" stAng="16200000" swAng="-5400000"/>
                  <a:lnTo>
                    <a:pt x="0" y="43696"/>
                  </a:lnTo>
                  <a:arcTo wR="0" hR="0" stAng="10800000" swAng="-5400000"/>
                  <a:lnTo>
                    <a:pt x="21600" y="436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V="1">
              <a:off x="6051600" y="2541960"/>
              <a:ext cx="84240" cy="199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51105">
                  <a:moveTo>
                    <a:pt x="0" y="0"/>
                  </a:moveTo>
                  <a:arcTo wR="0" hR="0" stAng="16200000" swAng="-5400000"/>
                  <a:lnTo>
                    <a:pt x="0" y="51105"/>
                  </a:lnTo>
                  <a:arcTo wR="0" hR="0" stAng="10800000" swAng="-5400000"/>
                  <a:lnTo>
                    <a:pt x="21600" y="5110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6054840" y="2680200"/>
              <a:ext cx="79200" cy="565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V="1">
              <a:off x="6054840" y="2548440"/>
              <a:ext cx="33120" cy="12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80826">
                  <a:moveTo>
                    <a:pt x="0" y="0"/>
                  </a:moveTo>
                  <a:arcTo wR="0" hR="0" stAng="16200000" swAng="-5400000"/>
                  <a:lnTo>
                    <a:pt x="0" y="80826"/>
                  </a:lnTo>
                  <a:arcTo wR="0" hR="0" stAng="10800000" swAng="-5400000"/>
                  <a:lnTo>
                    <a:pt x="21600" y="8082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6107040" y="2552040"/>
              <a:ext cx="22320" cy="11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105943">
                  <a:moveTo>
                    <a:pt x="0" y="0"/>
                  </a:moveTo>
                  <a:arcTo wR="0" hR="0" stAng="16200000" swAng="-5400000"/>
                  <a:lnTo>
                    <a:pt x="0" y="105943"/>
                  </a:lnTo>
                  <a:arcTo wR="0" hR="0" stAng="10800000" swAng="-5400000"/>
                  <a:lnTo>
                    <a:pt x="21600" y="1059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6062760" y="2584080"/>
              <a:ext cx="19080" cy="82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360 h 82080"/>
                <a:gd name="textAreaBottom" fmla="*/ 82800 h 82080"/>
              </a:gdLst>
              <a:ahLst/>
              <a:rect l="textAreaLeft" t="textAreaTop" r="textAreaRight" b="textAreaBottom"/>
              <a:pathLst>
                <a:path w="21600" h="91600">
                  <a:moveTo>
                    <a:pt x="0" y="0"/>
                  </a:moveTo>
                  <a:arcTo wR="0" hR="0" stAng="16200000" swAng="-5400000"/>
                  <a:lnTo>
                    <a:pt x="0" y="91600"/>
                  </a:lnTo>
                  <a:arcTo wR="0" hR="0" stAng="10800000" swAng="-5400000"/>
                  <a:lnTo>
                    <a:pt x="21600" y="91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6064200" y="2584080"/>
              <a:ext cx="17640" cy="4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V="1">
              <a:off x="6091200" y="2548440"/>
              <a:ext cx="3240" cy="124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21600" h="751680">
                  <a:moveTo>
                    <a:pt x="0" y="0"/>
                  </a:moveTo>
                  <a:arcTo wR="0" hR="0" stAng="16200000" swAng="-5400000"/>
                  <a:lnTo>
                    <a:pt x="0" y="751680"/>
                  </a:lnTo>
                  <a:arcTo wR="0" hR="0" stAng="10800000" swAng="-5400000"/>
                  <a:lnTo>
                    <a:pt x="21600" y="751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6102360" y="2552040"/>
              <a:ext cx="6480" cy="11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1600" h="351284">
                  <a:moveTo>
                    <a:pt x="0" y="0"/>
                  </a:moveTo>
                  <a:arcTo wR="0" hR="0" stAng="16200000" swAng="-5400000"/>
                  <a:lnTo>
                    <a:pt x="0" y="351284"/>
                  </a:lnTo>
                  <a:arcTo wR="0" hR="0" stAng="10800000" swAng="-5400000"/>
                  <a:lnTo>
                    <a:pt x="21600" y="35128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V="1">
              <a:off x="6076800" y="2688120"/>
              <a:ext cx="6480" cy="47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-360 h 47160"/>
                <a:gd name="textAreaBottom" fmla="*/ 47160 h 47160"/>
              </a:gdLst>
              <a:ahLst/>
              <a:rect l="textAreaLeft" t="textAreaTop" r="textAreaRight" b="textAreaBottom"/>
              <a:pathLst>
                <a:path w="21600" h="150063">
                  <a:moveTo>
                    <a:pt x="0" y="0"/>
                  </a:moveTo>
                  <a:arcTo wR="0" hR="0" stAng="16200000" swAng="-5400000"/>
                  <a:lnTo>
                    <a:pt x="0" y="150063"/>
                  </a:lnTo>
                  <a:arcTo wR="0" hR="0" stAng="10800000" swAng="-5400000"/>
                  <a:lnTo>
                    <a:pt x="21600" y="15006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062760" y="2693520"/>
              <a:ext cx="4680" cy="43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062760" y="2714040"/>
              <a:ext cx="4680" cy="612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040440" y="2530080"/>
              <a:ext cx="112680" cy="22824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6113520" y="2689560"/>
              <a:ext cx="6120" cy="15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-360 h 15480"/>
                <a:gd name="textAreaBottom" fmla="*/ 15480 h 15480"/>
              </a:gdLst>
              <a:ahLst/>
              <a:rect l="textAreaLeft" t="textAreaTop" r="textAreaRight" b="textAreaBottom"/>
              <a:pathLst>
                <a:path w="21600" h="52800">
                  <a:moveTo>
                    <a:pt x="0" y="0"/>
                  </a:moveTo>
                  <a:arcTo wR="0" hR="0" stAng="16200000" swAng="-5400000"/>
                  <a:lnTo>
                    <a:pt x="0" y="52800"/>
                  </a:lnTo>
                  <a:arcTo wR="0" hR="0" stAng="10800000" swAng="-5400000"/>
                  <a:lnTo>
                    <a:pt x="21600" y="5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6181560" y="2538000"/>
              <a:ext cx="37944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6183360" y="25761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6183360" y="261828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6183360" y="2664360"/>
              <a:ext cx="374760" cy="2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6183360" y="270792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6202440" y="2539440"/>
              <a:ext cx="341280" cy="210960"/>
              <a:chOff x="6202440" y="2539440"/>
              <a:chExt cx="341280" cy="210960"/>
            </a:xfrm>
          </p:grpSpPr>
          <p:sp>
            <p:nvSpPr>
              <p:cNvPr id="3371" name=""/>
              <p:cNvSpPr/>
              <p:nvPr/>
            </p:nvSpPr>
            <p:spPr>
              <a:xfrm>
                <a:off x="620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221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370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25608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273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29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30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32880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347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36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380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399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41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43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4551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4724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4915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50736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52464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543720" y="253944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91" name=""/>
            <p:cNvSpPr/>
            <p:nvPr/>
          </p:nvSpPr>
          <p:spPr>
            <a:xfrm flipV="1">
              <a:off x="6181560" y="2900520"/>
              <a:ext cx="379440" cy="209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V="1">
              <a:off x="6183360" y="29376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6183360" y="298044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6183360" y="302616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6183360" y="3069000"/>
              <a:ext cx="37476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6" name=""/>
            <p:cNvGrpSpPr/>
            <p:nvPr/>
          </p:nvGrpSpPr>
          <p:grpSpPr>
            <a:xfrm>
              <a:off x="6202440" y="2902680"/>
              <a:ext cx="341280" cy="209160"/>
              <a:chOff x="6202440" y="2902680"/>
              <a:chExt cx="341280" cy="209160"/>
            </a:xfrm>
          </p:grpSpPr>
          <p:sp>
            <p:nvSpPr>
              <p:cNvPr id="3397" name=""/>
              <p:cNvSpPr/>
              <p:nvPr/>
            </p:nvSpPr>
            <p:spPr>
              <a:xfrm>
                <a:off x="620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221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2370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25608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273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29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30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32880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347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36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380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399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41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43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4551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4724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4915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50736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52464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543720" y="2902680"/>
                <a:ext cx="0" cy="2091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7" name=""/>
            <p:cNvSpPr/>
            <p:nvPr/>
          </p:nvSpPr>
          <p:spPr>
            <a:xfrm flipV="1">
              <a:off x="6181560" y="3246120"/>
              <a:ext cx="379440" cy="21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6183360" y="3283920"/>
              <a:ext cx="374760" cy="10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6183360" y="332748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6183360" y="3371760"/>
              <a:ext cx="374760" cy="4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6183360" y="3413880"/>
              <a:ext cx="37476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2" name=""/>
            <p:cNvGrpSpPr/>
            <p:nvPr/>
          </p:nvGrpSpPr>
          <p:grpSpPr>
            <a:xfrm>
              <a:off x="6202440" y="3248280"/>
              <a:ext cx="341280" cy="210960"/>
              <a:chOff x="6202440" y="3248280"/>
              <a:chExt cx="341280" cy="210960"/>
            </a:xfrm>
          </p:grpSpPr>
          <p:sp>
            <p:nvSpPr>
              <p:cNvPr id="3423" name=""/>
              <p:cNvSpPr/>
              <p:nvPr/>
            </p:nvSpPr>
            <p:spPr>
              <a:xfrm>
                <a:off x="620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221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2370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25608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273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29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30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32880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347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36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380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99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41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43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4551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4724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4915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50736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52464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543720" y="324828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 flipV="1">
              <a:off x="6040440" y="2796480"/>
              <a:ext cx="96840" cy="216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040440" y="2796480"/>
              <a:ext cx="98280" cy="2484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6040440" y="2839320"/>
              <a:ext cx="139680" cy="295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040440" y="2839320"/>
              <a:ext cx="142920" cy="34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7" name=""/>
          <p:cNvSpPr/>
          <p:nvPr/>
        </p:nvSpPr>
        <p:spPr>
          <a:xfrm>
            <a:off x="561492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8" name=""/>
          <p:cNvGrpSpPr/>
          <p:nvPr/>
        </p:nvGrpSpPr>
        <p:grpSpPr>
          <a:xfrm>
            <a:off x="2563920" y="2538000"/>
            <a:ext cx="630000" cy="1073160"/>
            <a:chOff x="2563920" y="2538000"/>
            <a:chExt cx="630000" cy="1073160"/>
          </a:xfrm>
        </p:grpSpPr>
        <p:sp>
          <p:nvSpPr>
            <p:cNvPr id="3449" name=""/>
            <p:cNvSpPr/>
            <p:nvPr/>
          </p:nvSpPr>
          <p:spPr>
            <a:xfrm flipV="1">
              <a:off x="2563920" y="2537640"/>
              <a:ext cx="630000" cy="10270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-36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600" h="35206">
                  <a:moveTo>
                    <a:pt x="0" y="0"/>
                  </a:moveTo>
                  <a:arcTo wR="0" hR="0" stAng="16200000" swAng="-5400000"/>
                  <a:lnTo>
                    <a:pt x="0" y="35206"/>
                  </a:lnTo>
                  <a:arcTo wR="0" hR="0" stAng="10800000" swAng="-5400000"/>
                  <a:lnTo>
                    <a:pt x="21600" y="3520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576520" y="3566520"/>
              <a:ext cx="609480" cy="442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95600" y="2538360"/>
              <a:ext cx="0" cy="102708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600280" y="2546280"/>
              <a:ext cx="557280" cy="101592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565360" y="2541600"/>
              <a:ext cx="2376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165480" y="2541600"/>
              <a:ext cx="27000" cy="1019160"/>
            </a:xfrm>
            <a:prstGeom prst="pie">
              <a:avLst/>
            </a:pr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165480" y="2538360"/>
              <a:ext cx="0" cy="1030320"/>
            </a:xfrm>
            <a:prstGeom prst="line">
              <a:avLst/>
            </a:prstGeom>
            <a:ln cap="sq"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2617920" y="2610720"/>
              <a:ext cx="107640" cy="22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-360 h 222120"/>
                <a:gd name="textAreaBottom" fmla="*/ 222120 h 222120"/>
              </a:gdLst>
              <a:ahLst/>
              <a:rect l="textAreaLeft" t="textAreaTop" r="textAreaRight" b="textAreaBottom"/>
              <a:pathLst>
                <a:path w="21600" h="44496">
                  <a:moveTo>
                    <a:pt x="0" y="0"/>
                  </a:moveTo>
                  <a:arcTo wR="0" hR="0" stAng="16200000" swAng="-5400000"/>
                  <a:lnTo>
                    <a:pt x="0" y="44496"/>
                  </a:lnTo>
                  <a:arcTo wR="0" hR="0" stAng="10800000" swAng="-5400000"/>
                  <a:lnTo>
                    <a:pt x="21600" y="444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2629080" y="2623320"/>
              <a:ext cx="83880" cy="198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-360 h 198360"/>
                <a:gd name="textAreaBottom" fmla="*/ 198360 h 198360"/>
              </a:gdLst>
              <a:ahLst/>
              <a:rect l="textAreaLeft" t="textAreaTop" r="textAreaRight" b="textAreaBottom"/>
              <a:pathLst>
                <a:path w="21600" h="50954">
                  <a:moveTo>
                    <a:pt x="0" y="0"/>
                  </a:moveTo>
                  <a:arcTo wR="0" hR="0" stAng="16200000" swAng="-5400000"/>
                  <a:lnTo>
                    <a:pt x="0" y="50954"/>
                  </a:lnTo>
                  <a:arcTo wR="0" hR="0" stAng="10800000" swAng="-5400000"/>
                  <a:lnTo>
                    <a:pt x="21600" y="5095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2631960" y="2760840"/>
              <a:ext cx="79560" cy="568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2631960" y="2629080"/>
              <a:ext cx="34920" cy="12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76922">
                  <a:moveTo>
                    <a:pt x="0" y="0"/>
                  </a:moveTo>
                  <a:arcTo wR="0" hR="0" stAng="16200000" swAng="-5400000"/>
                  <a:lnTo>
                    <a:pt x="0" y="76922"/>
                  </a:lnTo>
                  <a:arcTo wR="0" hR="0" stAng="10800000" swAng="-5400000"/>
                  <a:lnTo>
                    <a:pt x="21600" y="76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2684520" y="2631240"/>
              <a:ext cx="23760" cy="111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99940">
                  <a:moveTo>
                    <a:pt x="0" y="0"/>
                  </a:moveTo>
                  <a:arcTo wR="0" hR="0" stAng="16200000" swAng="-5400000"/>
                  <a:lnTo>
                    <a:pt x="0" y="99940"/>
                  </a:lnTo>
                  <a:arcTo wR="0" hR="0" stAng="10800000" swAng="-5400000"/>
                  <a:lnTo>
                    <a:pt x="21600" y="999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2639880" y="266328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92000">
                  <a:moveTo>
                    <a:pt x="0" y="0"/>
                  </a:moveTo>
                  <a:arcTo wR="0" hR="0" stAng="16200000" swAng="-5400000"/>
                  <a:lnTo>
                    <a:pt x="0" y="92000"/>
                  </a:lnTo>
                  <a:arcTo wR="0" hR="0" stAng="10800000" swAng="-5400000"/>
                  <a:lnTo>
                    <a:pt x="21600" y="92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639880" y="2663280"/>
              <a:ext cx="19080" cy="46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2668680" y="2629080"/>
              <a:ext cx="1440" cy="125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1507680">
                  <a:moveTo>
                    <a:pt x="0" y="0"/>
                  </a:moveTo>
                  <a:arcTo wR="0" hR="0" stAng="16200000" swAng="-5400000"/>
                  <a:lnTo>
                    <a:pt x="0" y="1507680"/>
                  </a:lnTo>
                  <a:arcTo wR="0" hR="0" stAng="10800000" swAng="-5400000"/>
                  <a:lnTo>
                    <a:pt x="21600" y="1507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2679840" y="2631240"/>
              <a:ext cx="7920" cy="111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-360 h 111240"/>
                <a:gd name="textAreaBottom" fmla="*/ 111240 h 111240"/>
              </a:gdLst>
              <a:ahLst/>
              <a:rect l="textAreaLeft" t="textAreaTop" r="textAreaRight" b="textAreaBottom"/>
              <a:pathLst>
                <a:path w="21600" h="291130">
                  <a:moveTo>
                    <a:pt x="0" y="0"/>
                  </a:moveTo>
                  <a:arcTo wR="0" hR="0" stAng="16200000" swAng="-5400000"/>
                  <a:lnTo>
                    <a:pt x="0" y="291130"/>
                  </a:lnTo>
                  <a:arcTo wR="0" hR="0" stAng="10800000" swAng="-5400000"/>
                  <a:lnTo>
                    <a:pt x="21600" y="29113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2652840" y="2766960"/>
              <a:ext cx="6120" cy="475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360 h 47520"/>
                <a:gd name="textAreaBottom" fmla="*/ 48240 h 47520"/>
              </a:gdLst>
              <a:ahLst/>
              <a:rect l="textAreaLeft" t="textAreaTop" r="textAreaRight" b="textAreaBottom"/>
              <a:pathLst>
                <a:path w="21600" h="159600">
                  <a:moveTo>
                    <a:pt x="0" y="0"/>
                  </a:moveTo>
                  <a:arcTo wR="0" hR="0" stAng="16200000" swAng="-5400000"/>
                  <a:lnTo>
                    <a:pt x="0" y="159600"/>
                  </a:lnTo>
                  <a:arcTo wR="0" hR="0" stAng="10800000" swAng="-5400000"/>
                  <a:lnTo>
                    <a:pt x="21600" y="159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639880" y="2773440"/>
              <a:ext cx="6480" cy="46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639880" y="2793960"/>
              <a:ext cx="6480" cy="6480"/>
            </a:xfrm>
            <a:prstGeom prst="ellipse">
              <a:avLst/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616120" y="2610000"/>
              <a:ext cx="115920" cy="228600"/>
            </a:xfrm>
            <a:prstGeom prst="pie">
              <a:avLst/>
            </a:prstGeom>
            <a:noFill/>
            <a:ln cap="sq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689200" y="2770200"/>
              <a:ext cx="7920" cy="15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360 h 15840"/>
                <a:gd name="textAreaBottom" fmla="*/ 16560 h 15840"/>
              </a:gdLst>
              <a:ahLst/>
              <a:rect l="textAreaLeft" t="textAreaTop" r="textAreaRight" b="textAreaBottom"/>
              <a:pathLst>
                <a:path w="21600" h="42261">
                  <a:moveTo>
                    <a:pt x="0" y="0"/>
                  </a:moveTo>
                  <a:arcTo wR="0" hR="0" stAng="16200000" swAng="-5400000"/>
                  <a:lnTo>
                    <a:pt x="0" y="42261"/>
                  </a:lnTo>
                  <a:arcTo wR="0" hR="0" stAng="10800000" swAng="-5400000"/>
                  <a:lnTo>
                    <a:pt x="21600" y="422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cap="sq"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2760840" y="2617200"/>
              <a:ext cx="3790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2760840" y="265572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2760840" y="269892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2760840" y="274392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760840" y="278532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2781360" y="2619360"/>
              <a:ext cx="342720" cy="211320"/>
              <a:chOff x="2781360" y="2619360"/>
              <a:chExt cx="342720" cy="211320"/>
            </a:xfrm>
          </p:grpSpPr>
          <p:sp>
            <p:nvSpPr>
              <p:cNvPr id="3476" name=""/>
              <p:cNvSpPr/>
              <p:nvPr/>
            </p:nvSpPr>
            <p:spPr>
              <a:xfrm>
                <a:off x="2781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79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8144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8321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852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2870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887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29084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2925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29433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9592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2978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9556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014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03372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0528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06864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0862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310500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124080" y="261936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6" name=""/>
            <p:cNvSpPr/>
            <p:nvPr/>
          </p:nvSpPr>
          <p:spPr>
            <a:xfrm flipV="1">
              <a:off x="2760840" y="2982960"/>
              <a:ext cx="379080" cy="210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V="1">
              <a:off x="2760840" y="301716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V="1">
              <a:off x="2760840" y="306144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V="1">
              <a:off x="2760840" y="3106080"/>
              <a:ext cx="376200" cy="3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2760840" y="3149640"/>
              <a:ext cx="3762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1" name=""/>
            <p:cNvGrpSpPr/>
            <p:nvPr/>
          </p:nvGrpSpPr>
          <p:grpSpPr>
            <a:xfrm>
              <a:off x="2781360" y="2982960"/>
              <a:ext cx="342720" cy="210960"/>
              <a:chOff x="2781360" y="2982960"/>
              <a:chExt cx="342720" cy="210960"/>
            </a:xfrm>
          </p:grpSpPr>
          <p:sp>
            <p:nvSpPr>
              <p:cNvPr id="3502" name=""/>
              <p:cNvSpPr/>
              <p:nvPr/>
            </p:nvSpPr>
            <p:spPr>
              <a:xfrm>
                <a:off x="2781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79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8144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8321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852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870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887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9084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25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9592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978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99556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014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03372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0528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06864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0862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10500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124080" y="2982960"/>
                <a:ext cx="0" cy="21096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2" name=""/>
            <p:cNvSpPr/>
            <p:nvPr/>
          </p:nvSpPr>
          <p:spPr>
            <a:xfrm flipV="1">
              <a:off x="2760840" y="3328200"/>
              <a:ext cx="37908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2760840" y="3365640"/>
              <a:ext cx="376200" cy="28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2760840" y="340776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2760840" y="345204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2760840" y="3496680"/>
              <a:ext cx="3762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2781360" y="3328920"/>
              <a:ext cx="342720" cy="211320"/>
              <a:chOff x="2781360" y="3328920"/>
              <a:chExt cx="342720" cy="211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2781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79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8144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8321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852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870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887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9084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925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9433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9592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978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99556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3014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303372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0528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306864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30862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310500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124080" y="3328920"/>
                <a:ext cx="0" cy="211320"/>
              </a:xfrm>
              <a:prstGeom prst="line">
                <a:avLst/>
              </a:prstGeom>
              <a:ln cap="sq"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8" name=""/>
            <p:cNvSpPr/>
            <p:nvPr/>
          </p:nvSpPr>
          <p:spPr>
            <a:xfrm flipV="1">
              <a:off x="2617920" y="2876400"/>
              <a:ext cx="96840" cy="223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16120" y="2876400"/>
              <a:ext cx="100080" cy="2556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2617920" y="2919240"/>
              <a:ext cx="137880" cy="302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616120" y="2919240"/>
              <a:ext cx="144720" cy="34920"/>
            </a:xfrm>
            <a:prstGeom prst="pie">
              <a:avLst/>
            </a:pr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2" name=""/>
          <p:cNvSpPr/>
          <p:nvPr/>
        </p:nvSpPr>
        <p:spPr>
          <a:xfrm>
            <a:off x="220500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399096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 (puhverdam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4920" y="175248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ale eelnevat päringut te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üüd ja jätab meel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com nimeserverite nimed ja IP aadres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nimeserverite nimed ja IP aadress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nominum.com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P aadr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6" name=""/>
          <p:cNvGrpSpPr/>
          <p:nvPr/>
        </p:nvGrpSpPr>
        <p:grpSpPr>
          <a:xfrm>
            <a:off x="1176480" y="4594320"/>
            <a:ext cx="847440" cy="990360"/>
            <a:chOff x="1176480" y="4594320"/>
            <a:chExt cx="847440" cy="990360"/>
          </a:xfrm>
        </p:grpSpPr>
        <p:sp>
          <p:nvSpPr>
            <p:cNvPr id="3557" name=""/>
            <p:cNvSpPr/>
            <p:nvPr/>
          </p:nvSpPr>
          <p:spPr>
            <a:xfrm flipV="1">
              <a:off x="1295280" y="5168880"/>
              <a:ext cx="621000" cy="1857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cap="sq"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312920" y="5245200"/>
              <a:ext cx="93600" cy="28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1560600" y="5197320"/>
              <a:ext cx="228600" cy="13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316160" y="4594320"/>
              <a:ext cx="576000" cy="50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1359000" y="4645080"/>
              <a:ext cx="496800" cy="38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1376280" y="4662360"/>
              <a:ext cx="46512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1297080" y="5203080"/>
              <a:ext cx="242640" cy="46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1297080" y="5322240"/>
              <a:ext cx="2426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1793880" y="5197320"/>
              <a:ext cx="125280" cy="6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1793880" y="5322240"/>
              <a:ext cx="123840" cy="32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1576440" y="5217480"/>
              <a:ext cx="195120" cy="32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V="1">
              <a:off x="1603440" y="5251320"/>
              <a:ext cx="1443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562040" y="5240160"/>
              <a:ext cx="2271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62040" y="5273640"/>
              <a:ext cx="2239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1816200" y="5235480"/>
              <a:ext cx="77760" cy="381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176480" y="5384880"/>
              <a:ext cx="847440" cy="171360"/>
            </a:xfrm>
            <a:prstGeom prst="pie">
              <a:avLst/>
            </a:prstGeom>
            <a:solidFill>
              <a:srgbClr val="c0c0c0"/>
            </a:solidFill>
            <a:ln cap="sq"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177920" y="5556240"/>
              <a:ext cx="846000" cy="28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278000" y="5398920"/>
              <a:ext cx="542880" cy="14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230480" y="5424480"/>
              <a:ext cx="496800" cy="8424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733400" y="5424480"/>
              <a:ext cx="101880" cy="3816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41320" y="5467320"/>
              <a:ext cx="103320" cy="414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36720" y="5425920"/>
              <a:ext cx="150840" cy="82800"/>
            </a:xfrm>
            <a:prstGeom prst="pie">
              <a:avLst/>
            </a:prstGeom>
            <a:solidFill>
              <a:srgbClr val="727272"/>
            </a:solidFill>
            <a:ln cap="sq"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1465200" y="5093640"/>
              <a:ext cx="284400" cy="4932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cap="sq"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V="1">
              <a:off x="1817640" y="5056200"/>
              <a:ext cx="36720" cy="22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cap="sq"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V="1">
              <a:off x="1395360" y="5122800"/>
              <a:ext cx="422280" cy="367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V="1">
              <a:off x="1397160" y="5157720"/>
              <a:ext cx="420480" cy="79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3" name=""/>
          <p:cNvSpPr/>
          <p:nvPr/>
        </p:nvSpPr>
        <p:spPr>
          <a:xfrm>
            <a:off x="72072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3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on traadiga ühenduses mitme eri arvutiga (X, Z, U, ...) siis kuidas saata nimelt soovitud arvutisse (meie näites X) oma inf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X ja Y pole otse ühenduses vaid teiste kaudu, siis kuidas jõuavad sõnumid ühest arvutist tei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info hulk on väga suur (näiteks 700 MB), kas saaks seda üksikute väiksemate tükkidena sa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kontrollida, kas tükid jõudsid pära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s teha, kui mõni tükk kaduma lähe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arvuti X tükid õieti kokku oskab pan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375840"/>
            <a:ext cx="7766280" cy="306360"/>
            <a:chOff x="838080" y="375840"/>
            <a:chExt cx="7766280" cy="306360"/>
          </a:xfrm>
        </p:grpSpPr>
        <p:sp>
          <p:nvSpPr>
            <p:cNvPr id="87" name=""/>
            <p:cNvSpPr/>
            <p:nvPr/>
          </p:nvSpPr>
          <p:spPr>
            <a:xfrm>
              <a:off x="838080" y="677520"/>
              <a:ext cx="77630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604360" y="3758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33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604440"/>
            <a:ext cx="7767720" cy="306360"/>
            <a:chOff x="838080" y="604440"/>
            <a:chExt cx="7767720" cy="306360"/>
          </a:xfrm>
        </p:grpSpPr>
        <p:sp>
          <p:nvSpPr>
            <p:cNvPr id="92" name=""/>
            <p:cNvSpPr/>
            <p:nvPr/>
          </p:nvSpPr>
          <p:spPr>
            <a:xfrm>
              <a:off x="838080" y="906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05800" y="604440"/>
              <a:ext cx="0" cy="30636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438280" y="2971800"/>
            <a:ext cx="295560" cy="299880"/>
            <a:chOff x="2438280" y="2971800"/>
            <a:chExt cx="295560" cy="299880"/>
          </a:xfrm>
        </p:grpSpPr>
        <p:sp>
          <p:nvSpPr>
            <p:cNvPr id="95" name=""/>
            <p:cNvSpPr/>
            <p:nvPr/>
          </p:nvSpPr>
          <p:spPr>
            <a:xfrm>
              <a:off x="2438280" y="297180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2971800"/>
              <a:ext cx="295560" cy="698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2200" y="297180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1905120"/>
            <a:ext cx="295560" cy="299880"/>
            <a:chOff x="2438280" y="1905120"/>
            <a:chExt cx="295560" cy="299880"/>
          </a:xfrm>
        </p:grpSpPr>
        <p:sp>
          <p:nvSpPr>
            <p:cNvPr id="99" name=""/>
            <p:cNvSpPr/>
            <p:nvPr/>
          </p:nvSpPr>
          <p:spPr>
            <a:xfrm>
              <a:off x="2438280" y="190512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1905120"/>
              <a:ext cx="29556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2200" y="190512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38480" y="2362320"/>
            <a:ext cx="295560" cy="299880"/>
            <a:chOff x="4038480" y="2362320"/>
            <a:chExt cx="295560" cy="299880"/>
          </a:xfrm>
        </p:grpSpPr>
        <p:sp>
          <p:nvSpPr>
            <p:cNvPr id="103" name=""/>
            <p:cNvSpPr/>
            <p:nvPr/>
          </p:nvSpPr>
          <p:spPr>
            <a:xfrm>
              <a:off x="4038480" y="2362320"/>
              <a:ext cx="295560" cy="299880"/>
            </a:xfrm>
            <a:prstGeom prst="pie">
              <a:avLst/>
            </a:prstGeom>
            <a:solidFill>
              <a:srgbClr val="ff66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480" y="2362320"/>
              <a:ext cx="295560" cy="71280"/>
            </a:xfrm>
            <a:prstGeom prst="pie">
              <a:avLst/>
            </a:prstGeom>
            <a:solidFill>
              <a:srgbClr val="ff6f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2400" y="2362320"/>
              <a:ext cx="69840" cy="299880"/>
            </a:xfrm>
            <a:prstGeom prst="pie">
              <a:avLst/>
            </a:prstGeom>
            <a:solidFill>
              <a:srgbClr val="db5700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15000" y="2895480"/>
            <a:ext cx="295200" cy="300240"/>
            <a:chOff x="5715000" y="2895480"/>
            <a:chExt cx="295200" cy="300240"/>
          </a:xfrm>
        </p:grpSpPr>
        <p:sp>
          <p:nvSpPr>
            <p:cNvPr id="107" name=""/>
            <p:cNvSpPr/>
            <p:nvPr/>
          </p:nvSpPr>
          <p:spPr>
            <a:xfrm>
              <a:off x="5715000" y="28954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5000" y="28954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8920" y="2895480"/>
              <a:ext cx="7128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962520" y="1295280"/>
            <a:ext cx="295200" cy="300240"/>
            <a:chOff x="3962520" y="1295280"/>
            <a:chExt cx="295200" cy="300240"/>
          </a:xfrm>
        </p:grpSpPr>
        <p:sp>
          <p:nvSpPr>
            <p:cNvPr id="111" name=""/>
            <p:cNvSpPr/>
            <p:nvPr/>
          </p:nvSpPr>
          <p:spPr>
            <a:xfrm>
              <a:off x="3962520" y="1295280"/>
              <a:ext cx="29520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1295280"/>
              <a:ext cx="29520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86080" y="1295280"/>
              <a:ext cx="716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38480" y="3505320"/>
            <a:ext cx="295560" cy="299880"/>
            <a:chOff x="4038480" y="3505320"/>
            <a:chExt cx="295560" cy="299880"/>
          </a:xfrm>
        </p:grpSpPr>
        <p:sp>
          <p:nvSpPr>
            <p:cNvPr id="115" name=""/>
            <p:cNvSpPr/>
            <p:nvPr/>
          </p:nvSpPr>
          <p:spPr>
            <a:xfrm>
              <a:off x="4038480" y="3505320"/>
              <a:ext cx="295560" cy="29988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3505320"/>
              <a:ext cx="295560" cy="7128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2400" y="3505320"/>
              <a:ext cx="69840" cy="29988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867280" y="1752480"/>
            <a:ext cx="295560" cy="300240"/>
            <a:chOff x="5867280" y="1752480"/>
            <a:chExt cx="295560" cy="300240"/>
          </a:xfrm>
        </p:grpSpPr>
        <p:sp>
          <p:nvSpPr>
            <p:cNvPr id="119" name=""/>
            <p:cNvSpPr/>
            <p:nvPr/>
          </p:nvSpPr>
          <p:spPr>
            <a:xfrm>
              <a:off x="5867280" y="1752480"/>
              <a:ext cx="295560" cy="300240"/>
            </a:xfrm>
            <a:prstGeom prst="pie">
              <a:avLst/>
            </a:prstGeom>
            <a:solidFill>
              <a:srgbClr val="00cccc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1752480"/>
              <a:ext cx="295560" cy="71640"/>
            </a:xfrm>
            <a:prstGeom prst="pie">
              <a:avLst/>
            </a:prstGeom>
            <a:solidFill>
              <a:srgbClr val="00dfd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1200" y="1752480"/>
              <a:ext cx="69840" cy="300240"/>
            </a:xfrm>
            <a:prstGeom prst="pie">
              <a:avLst/>
            </a:prstGeom>
            <a:solidFill>
              <a:srgbClr val="00afaf"/>
            </a:solidFill>
            <a:ln cap="sq"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2743200" y="2505240"/>
            <a:ext cx="1295280" cy="552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2200" y="1712520"/>
            <a:ext cx="685800" cy="4932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523880"/>
            <a:ext cx="20908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343400" y="1895040"/>
            <a:ext cx="1523880" cy="476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2657160"/>
            <a:ext cx="1440" cy="857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334040" y="2505240"/>
            <a:ext cx="1466640" cy="552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733480" y="2047680"/>
            <a:ext cx="1314360" cy="399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1590480"/>
            <a:ext cx="1440" cy="780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cap="sq"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0"/>
            <a:ext cx="28195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filter, mis õpib võrguliiklust kuulates millise traadi otsas on mingi masin ja saadab edasi AINULT sellele, kellele teade kuulu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es 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tele 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568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6DA2B-803F-4908-B34D-5CEAB152C2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ja 10Base2 Ethernet kasutas ühtset jagatud  siini (eetr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Etherneti algne siini arhitektu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901E7-23F3-4CC9-B1C7-14E859A335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admed on ühendatu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38080" y="380880"/>
            <a:ext cx="77644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änapäeval kasutatakse täht-arhitektu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9-10-29T08:40:57Z</dcterms:modified>
  <cp:revision>51</cp:revision>
  <dc:subject/>
  <dc:title>PowerPoint Presentation</dc:title>
</cp:coreProperties>
</file>